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112-10AA-4E17-8846-9F42AF1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460-6DAF-425C-8EF8-C3E160E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EC7-7118-4D2B-B5B8-7534C576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C81-FCFE-4F68-A9B6-4234AEDF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987-0E3F-4DB1-BFA5-DF720D9C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61C-F8BA-494A-93F3-F571973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45F-9C9F-4822-8743-FF22597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C36-84FC-4DB7-B09B-D95CB63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064-EFBA-4DF4-B87B-97665143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A47-6660-431B-A8E2-0886FE9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41A-DB7F-4FF6-97A3-5FEF174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CC7-A0D5-495D-B063-2462DAF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C02-2D56-48EB-914C-D59C6C69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563"/>
          <p:cNvPicPr/>
          <p:nvPr/>
        </p:nvPicPr>
        <p:blipFill>
          <a:blip r:embed="rId1"/>
          <a:stretch/>
        </p:blipFill>
        <p:spPr>
          <a:xfrm>
            <a:off x="4643280" y="1628640"/>
            <a:ext cx="400212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366"/>
          <p:cNvPicPr/>
          <p:nvPr/>
        </p:nvPicPr>
        <p:blipFill>
          <a:blip r:embed="rId2"/>
          <a:stretch/>
        </p:blipFill>
        <p:spPr>
          <a:xfrm>
            <a:off x="539640" y="1700280"/>
            <a:ext cx="3888000" cy="43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AutoShape 5"/>
          <p:cNvSpPr/>
          <p:nvPr/>
        </p:nvSpPr>
        <p:spPr>
          <a:xfrm>
            <a:off x="6012000" y="2924280"/>
            <a:ext cx="215640" cy="215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800600" y="2057400"/>
            <a:ext cx="2390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400800" y="2362320"/>
            <a:ext cx="26668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impu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rough trigeminal n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ami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411280" y="1916280"/>
            <a:ext cx="216000" cy="215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2556000" y="2060640"/>
            <a:ext cx="3456000" cy="1008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41280" y="1379520"/>
            <a:ext cx="3733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trigeminal nerve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327480" y="1600200"/>
            <a:ext cx="26161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72428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403280" y="508464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258920" y="544500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187280" y="580536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979920" y="473076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55640" y="508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92200" y="544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68360" y="580536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0" y="3208320"/>
            <a:ext cx="26272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Efferent impulse v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 posterior longitud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asciculus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medio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1258920" y="4437000"/>
            <a:ext cx="649080" cy="1152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1031760" y="4581360"/>
            <a:ext cx="803520" cy="146376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 rot="11510400">
            <a:off x="1474920" y="5235120"/>
            <a:ext cx="147600" cy="1508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6"/>
          <p:cNvSpPr/>
          <p:nvPr/>
        </p:nvSpPr>
        <p:spPr>
          <a:xfrm rot="8700000">
            <a:off x="1258920" y="5516280"/>
            <a:ext cx="201600" cy="147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 rot="5238000">
            <a:off x="1231560" y="5904000"/>
            <a:ext cx="19836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2411280" y="3429000"/>
            <a:ext cx="28764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2195640" y="4365720"/>
            <a:ext cx="28728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1692360" y="5084640"/>
            <a:ext cx="358560" cy="50328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2771640" y="3370320"/>
            <a:ext cx="28670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perior cervical gangl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556000" y="4284720"/>
            <a:ext cx="2598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iddle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2229480" y="5110200"/>
            <a:ext cx="1584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tellate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4"/>
          <p:cNvSpPr/>
          <p:nvPr/>
        </p:nvSpPr>
        <p:spPr>
          <a:xfrm>
            <a:off x="1619280" y="5661000"/>
            <a:ext cx="28728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1979640" y="5589720"/>
            <a:ext cx="3049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6"/>
          <p:cNvSpPr/>
          <p:nvPr/>
        </p:nvSpPr>
        <p:spPr>
          <a:xfrm>
            <a:off x="1619280" y="6021360"/>
            <a:ext cx="287280" cy="26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2124000" y="5915160"/>
            <a:ext cx="218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8"/>
          <p:cNvSpPr/>
          <p:nvPr/>
        </p:nvSpPr>
        <p:spPr>
          <a:xfrm>
            <a:off x="1403280" y="3573360"/>
            <a:ext cx="1176480" cy="26528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9"/>
          <p:cNvSpPr/>
          <p:nvPr/>
        </p:nvSpPr>
        <p:spPr>
          <a:xfrm>
            <a:off x="1403280" y="5157720"/>
            <a:ext cx="576360" cy="7318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0"/>
          <p:cNvSpPr/>
          <p:nvPr/>
        </p:nvSpPr>
        <p:spPr>
          <a:xfrm>
            <a:off x="1619280" y="5084640"/>
            <a:ext cx="360360" cy="2523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1"/>
          <p:cNvSpPr/>
          <p:nvPr/>
        </p:nvSpPr>
        <p:spPr>
          <a:xfrm>
            <a:off x="250920" y="6172200"/>
            <a:ext cx="38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2540520" y="465624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passing v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3"/>
          <p:cNvSpPr/>
          <p:nvPr/>
        </p:nvSpPr>
        <p:spPr>
          <a:xfrm rot="21145800">
            <a:off x="2409840" y="3433680"/>
            <a:ext cx="2890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4"/>
          <p:cNvSpPr/>
          <p:nvPr/>
        </p:nvSpPr>
        <p:spPr>
          <a:xfrm>
            <a:off x="2556000" y="3130560"/>
            <a:ext cx="4103640" cy="3697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5"/>
          <p:cNvSpPr/>
          <p:nvPr/>
        </p:nvSpPr>
        <p:spPr>
          <a:xfrm rot="11583000">
            <a:off x="6300720" y="3499920"/>
            <a:ext cx="216000" cy="165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6"/>
          <p:cNvSpPr/>
          <p:nvPr/>
        </p:nvSpPr>
        <p:spPr>
          <a:xfrm>
            <a:off x="3124080" y="37180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the parotid gland via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lexus caroticus exter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7"/>
          <p:cNvSpPr/>
          <p:nvPr/>
        </p:nvSpPr>
        <p:spPr>
          <a:xfrm>
            <a:off x="6443640" y="4149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5076720" y="4479840"/>
            <a:ext cx="2619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decreas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048120"/>
            <a:ext cx="152388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cubicBezTo>
                  <a:pt x="132" y="32"/>
                  <a:pt x="264" y="64"/>
                  <a:pt x="384" y="96"/>
                </a:cubicBezTo>
                <a:cubicBezTo>
                  <a:pt x="504" y="128"/>
                  <a:pt x="624" y="152"/>
                  <a:pt x="720" y="192"/>
                </a:cubicBezTo>
                <a:cubicBezTo>
                  <a:pt x="816" y="232"/>
                  <a:pt x="920" y="312"/>
                  <a:pt x="960" y="33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9"/>
          <p:cNvSpPr/>
          <p:nvPr/>
        </p:nvSpPr>
        <p:spPr>
          <a:xfrm rot="20932200">
            <a:off x="7620120" y="3580920"/>
            <a:ext cx="153720" cy="15084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1"/>
          <p:cNvSpPr/>
          <p:nvPr/>
        </p:nvSpPr>
        <p:spPr>
          <a:xfrm>
            <a:off x="1547640" y="2060640"/>
            <a:ext cx="863640" cy="3168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7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9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5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500"/>
                            </p:stCondLst>
                            <p:childTnLst>
                              <p:par>
                                <p:cTn id="1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6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1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3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50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9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4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9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3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7500"/>
                            </p:stCondLst>
                            <p:childTnLst>
                              <p:par>
                                <p:cTn id="2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P0563"/>
          <p:cNvPicPr/>
          <p:nvPr/>
        </p:nvPicPr>
        <p:blipFill>
          <a:blip r:embed="rId1"/>
          <a:stretch/>
        </p:blipFill>
        <p:spPr>
          <a:xfrm>
            <a:off x="4648320" y="1600200"/>
            <a:ext cx="400212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91" name="Picture 4" descr="011"/>
          <p:cNvPicPr/>
          <p:nvPr/>
        </p:nvPicPr>
        <p:blipFill>
          <a:blip r:embed="rId2"/>
          <a:stretch/>
        </p:blipFill>
        <p:spPr>
          <a:xfrm>
            <a:off x="609480" y="1600200"/>
            <a:ext cx="3691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838080" y="2765520"/>
            <a:ext cx="245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nuclei of trigeminal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05720" y="1930320"/>
            <a:ext cx="248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rami of trigeminal nerve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908000" y="44370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rot="1118400">
            <a:off x="1231560" y="3234960"/>
            <a:ext cx="750960" cy="1487520"/>
          </a:xfrm>
          <a:custGeom>
            <a:avLst/>
            <a:gdLst>
              <a:gd name="textAreaLeft" fmla="*/ 100440 w 750960"/>
              <a:gd name="textAreaRight" fmla="*/ 650520 w 75096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4724280"/>
            <a:ext cx="35226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salivatorius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glossopharyngeal nerve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564000" y="4102200"/>
            <a:ext cx="24480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via the lesser petrosal nerve (from glossopharyngeal ner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084720" y="350028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711840" y="344808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6477120" y="4876920"/>
            <a:ext cx="259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0"/>
          <p:cNvSpPr/>
          <p:nvPr/>
        </p:nvSpPr>
        <p:spPr>
          <a:xfrm>
            <a:off x="6197760" y="3070080"/>
            <a:ext cx="245880" cy="5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 rot="10413600">
            <a:off x="6372000" y="3573000"/>
            <a:ext cx="142920" cy="212760"/>
          </a:xfrm>
          <a:prstGeom prst="triangle">
            <a:avLst>
              <a:gd name="adj" fmla="val 61676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 rot="8355000">
            <a:off x="1907640" y="4508640"/>
            <a:ext cx="216000" cy="101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 rot="8355000">
            <a:off x="6084360" y="3573000"/>
            <a:ext cx="216000" cy="101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525760" y="1812960"/>
            <a:ext cx="2952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"/>
          <p:cNvSpPr/>
          <p:nvPr/>
        </p:nvSpPr>
        <p:spPr>
          <a:xfrm>
            <a:off x="2336760" y="2684520"/>
            <a:ext cx="3832200" cy="84456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>
            <a:off x="6084720" y="2852640"/>
            <a:ext cx="216000" cy="2174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2195640" y="3429000"/>
            <a:ext cx="21564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0"/>
          <p:cNvSpPr/>
          <p:nvPr/>
        </p:nvSpPr>
        <p:spPr>
          <a:xfrm rot="20342400">
            <a:off x="7391520" y="3504960"/>
            <a:ext cx="141120" cy="2062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5410080" y="2235240"/>
            <a:ext cx="1295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848200" y="3886200"/>
            <a:ext cx="1776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2960" y="3124080"/>
            <a:ext cx="4114800" cy="1387440"/>
          </a:xfrm>
          <a:custGeom>
            <a:avLst/>
            <a:gdLst/>
            <a:ahLst/>
            <a:rect l="l" t="t" r="r" b="b"/>
            <a:pathLst>
              <a:path w="2592" h="874">
                <a:moveTo>
                  <a:pt x="0" y="874"/>
                </a:moveTo>
                <a:cubicBezTo>
                  <a:pt x="75" y="856"/>
                  <a:pt x="283" y="826"/>
                  <a:pt x="464" y="768"/>
                </a:cubicBezTo>
                <a:cubicBezTo>
                  <a:pt x="645" y="710"/>
                  <a:pt x="816" y="648"/>
                  <a:pt x="1088" y="528"/>
                </a:cubicBezTo>
                <a:cubicBezTo>
                  <a:pt x="1360" y="408"/>
                  <a:pt x="1856" y="96"/>
                  <a:pt x="2096" y="48"/>
                </a:cubicBezTo>
                <a:cubicBezTo>
                  <a:pt x="2336" y="0"/>
                  <a:pt x="2464" y="208"/>
                  <a:pt x="2528" y="240"/>
                </a:cubicBezTo>
                <a:cubicBezTo>
                  <a:pt x="2592" y="272"/>
                  <a:pt x="2488" y="240"/>
                  <a:pt x="2480" y="24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971800"/>
            <a:ext cx="1218960" cy="60948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0" y="0"/>
                </a:moveTo>
                <a:cubicBezTo>
                  <a:pt x="140" y="8"/>
                  <a:pt x="280" y="16"/>
                  <a:pt x="384" y="48"/>
                </a:cubicBezTo>
                <a:cubicBezTo>
                  <a:pt x="488" y="80"/>
                  <a:pt x="560" y="136"/>
                  <a:pt x="624" y="192"/>
                </a:cubicBezTo>
                <a:cubicBezTo>
                  <a:pt x="688" y="248"/>
                  <a:pt x="744" y="352"/>
                  <a:pt x="768" y="38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53080" y="3124080"/>
            <a:ext cx="2484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parot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0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1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7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2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0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1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2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4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5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6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3:45:27Z</dcterms:created>
  <dc:creator>Анечка</dc:creator>
  <dc:description/>
  <dc:language>en-US</dc:language>
  <cp:lastModifiedBy>user-ilya</cp:lastModifiedBy>
  <dcterms:modified xsi:type="dcterms:W3CDTF">2016-10-31T10:05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