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7BDA-516A-4C5F-AFBA-0F7AF298A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60C-60A5-4FE5-9AE8-A33E5401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B1E-BC1F-4738-8757-010F18E8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814-6515-4149-9CB5-476415D84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0540-C0F9-463B-AC6F-C766011A2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2946-215B-4901-BE93-3808EA76D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A396-7E8F-45D2-92F6-6DD7B686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CEE-C42B-461C-9A76-D7C74F7E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58AD-5651-4D3E-B319-5E1F3DD3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5CE7-2BB9-49DA-904D-8D7FD69D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701-63AC-4E56-8E0E-5CDD9E86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1DE8-77AC-494A-A3E4-D9D622C3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6ECF6-778B-43DB-A7A0-DE1D6A02F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5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mpathetic innervation of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P0084"/>
          <p:cNvPicPr/>
          <p:nvPr/>
        </p:nvPicPr>
        <p:blipFill>
          <a:blip r:embed="rId1"/>
          <a:stretch/>
        </p:blipFill>
        <p:spPr>
          <a:xfrm>
            <a:off x="609480" y="1752480"/>
            <a:ext cx="3024360" cy="39610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1"/>
          <p:cNvSpPr/>
          <p:nvPr/>
        </p:nvSpPr>
        <p:spPr>
          <a:xfrm>
            <a:off x="5364000" y="206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2"/>
          <p:cNvSpPr/>
          <p:nvPr/>
        </p:nvSpPr>
        <p:spPr>
          <a:xfrm>
            <a:off x="685800" y="2666880"/>
            <a:ext cx="3887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from heart via cervical and thoracic cardiac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9"/>
          <p:cNvSpPr/>
          <p:nvPr/>
        </p:nvSpPr>
        <p:spPr>
          <a:xfrm>
            <a:off x="838080" y="3886200"/>
            <a:ext cx="28958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heart via cervic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nd thoracic cardiac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20"/>
          <p:cNvSpPr/>
          <p:nvPr/>
        </p:nvSpPr>
        <p:spPr>
          <a:xfrm>
            <a:off x="2286000" y="502920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1"/>
          <p:cNvSpPr/>
          <p:nvPr/>
        </p:nvSpPr>
        <p:spPr>
          <a:xfrm>
            <a:off x="1295280" y="5715000"/>
            <a:ext cx="2210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incr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of hear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22"/>
          <p:cNvSpPr/>
          <p:nvPr/>
        </p:nvSpPr>
        <p:spPr>
          <a:xfrm rot="4884000">
            <a:off x="2595600" y="3578760"/>
            <a:ext cx="206640" cy="2113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3400" bIns="23400" anchor="t" anchorCtr="1" vert="eaVert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28"/>
          <p:cNvSpPr/>
          <p:nvPr/>
        </p:nvSpPr>
        <p:spPr>
          <a:xfrm rot="15937800">
            <a:off x="2664360" y="3431160"/>
            <a:ext cx="217440" cy="2127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6980" t="0" r="15094" b="16982"/>
          <a:stretch/>
        </p:blipFill>
        <p:spPr>
          <a:xfrm>
            <a:off x="4419720" y="1828800"/>
            <a:ext cx="4419360" cy="405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19520" y="3200400"/>
            <a:ext cx="4378320" cy="2535120"/>
          </a:xfrm>
          <a:custGeom>
            <a:avLst/>
            <a:gdLst/>
            <a:ahLst/>
            <a:rect l="l" t="t" r="r" b="b"/>
            <a:pathLst>
              <a:path w="2758" h="1597">
                <a:moveTo>
                  <a:pt x="0" y="144"/>
                </a:moveTo>
                <a:cubicBezTo>
                  <a:pt x="52" y="124"/>
                  <a:pt x="104" y="104"/>
                  <a:pt x="192" y="96"/>
                </a:cubicBezTo>
                <a:cubicBezTo>
                  <a:pt x="280" y="88"/>
                  <a:pt x="416" y="24"/>
                  <a:pt x="528" y="96"/>
                </a:cubicBezTo>
                <a:cubicBezTo>
                  <a:pt x="640" y="168"/>
                  <a:pt x="728" y="312"/>
                  <a:pt x="864" y="528"/>
                </a:cubicBezTo>
                <a:cubicBezTo>
                  <a:pt x="1000" y="744"/>
                  <a:pt x="1197" y="1215"/>
                  <a:pt x="1344" y="1392"/>
                </a:cubicBezTo>
                <a:cubicBezTo>
                  <a:pt x="1491" y="1569"/>
                  <a:pt x="1622" y="1597"/>
                  <a:pt x="1746" y="1592"/>
                </a:cubicBezTo>
                <a:cubicBezTo>
                  <a:pt x="1870" y="1587"/>
                  <a:pt x="1949" y="1490"/>
                  <a:pt x="2090" y="1361"/>
                </a:cubicBezTo>
                <a:cubicBezTo>
                  <a:pt x="2231" y="1232"/>
                  <a:pt x="2486" y="946"/>
                  <a:pt x="2592" y="816"/>
                </a:cubicBezTo>
                <a:cubicBezTo>
                  <a:pt x="2698" y="686"/>
                  <a:pt x="2710" y="667"/>
                  <a:pt x="2726" y="579"/>
                </a:cubicBezTo>
                <a:cubicBezTo>
                  <a:pt x="2742" y="491"/>
                  <a:pt x="2758" y="384"/>
                  <a:pt x="2688" y="288"/>
                </a:cubicBezTo>
                <a:cubicBezTo>
                  <a:pt x="2618" y="192"/>
                  <a:pt x="2368" y="48"/>
                  <a:pt x="230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29"/>
          <p:cNvSpPr/>
          <p:nvPr/>
        </p:nvSpPr>
        <p:spPr>
          <a:xfrm>
            <a:off x="6248520" y="2971800"/>
            <a:ext cx="287280" cy="287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6629400" y="2362320"/>
            <a:ext cx="12193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35600" y="2324160"/>
            <a:ext cx="1312920" cy="952560"/>
          </a:xfrm>
          <a:custGeom>
            <a:avLst/>
            <a:gdLst/>
            <a:ahLst/>
            <a:rect l="l" t="t" r="r" b="b"/>
            <a:pathLst>
              <a:path w="827" h="600">
                <a:moveTo>
                  <a:pt x="827" y="456"/>
                </a:moveTo>
                <a:cubicBezTo>
                  <a:pt x="795" y="428"/>
                  <a:pt x="765" y="394"/>
                  <a:pt x="731" y="360"/>
                </a:cubicBezTo>
                <a:cubicBezTo>
                  <a:pt x="697" y="326"/>
                  <a:pt x="673" y="299"/>
                  <a:pt x="625" y="251"/>
                </a:cubicBezTo>
                <a:cubicBezTo>
                  <a:pt x="577" y="203"/>
                  <a:pt x="489" y="110"/>
                  <a:pt x="443" y="72"/>
                </a:cubicBezTo>
                <a:cubicBezTo>
                  <a:pt x="397" y="34"/>
                  <a:pt x="362" y="31"/>
                  <a:pt x="347" y="24"/>
                </a:cubicBezTo>
                <a:cubicBezTo>
                  <a:pt x="332" y="17"/>
                  <a:pt x="369" y="28"/>
                  <a:pt x="354" y="32"/>
                </a:cubicBezTo>
                <a:cubicBezTo>
                  <a:pt x="339" y="36"/>
                  <a:pt x="300" y="0"/>
                  <a:pt x="254" y="46"/>
                </a:cubicBezTo>
                <a:cubicBezTo>
                  <a:pt x="208" y="92"/>
                  <a:pt x="117" y="226"/>
                  <a:pt x="76" y="310"/>
                </a:cubicBezTo>
                <a:cubicBezTo>
                  <a:pt x="35" y="394"/>
                  <a:pt x="22" y="504"/>
                  <a:pt x="11" y="552"/>
                </a:cubicBezTo>
                <a:cubicBezTo>
                  <a:pt x="0" y="600"/>
                  <a:pt x="11" y="592"/>
                  <a:pt x="11" y="60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>
            <a:off x="4856040" y="3218040"/>
            <a:ext cx="21600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5"/>
          <p:cNvSpPr/>
          <p:nvPr/>
        </p:nvSpPr>
        <p:spPr>
          <a:xfrm rot="11237400">
            <a:off x="4876200" y="327600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 rot="10800000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4648320" y="160020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fibres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erior sp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2743200" y="2209680"/>
            <a:ext cx="2209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ntermediolater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3429000"/>
            <a:ext cx="533520" cy="698400"/>
          </a:xfrm>
          <a:custGeom>
            <a:avLst/>
            <a:gdLst/>
            <a:ahLst/>
            <a:rect l="l" t="t" r="r" b="b"/>
            <a:pathLst>
              <a:path w="336" h="440">
                <a:moveTo>
                  <a:pt x="0" y="0"/>
                </a:moveTo>
                <a:cubicBezTo>
                  <a:pt x="12" y="88"/>
                  <a:pt x="24" y="176"/>
                  <a:pt x="48" y="240"/>
                </a:cubicBezTo>
                <a:cubicBezTo>
                  <a:pt x="72" y="304"/>
                  <a:pt x="104" y="352"/>
                  <a:pt x="144" y="384"/>
                </a:cubicBezTo>
                <a:cubicBezTo>
                  <a:pt x="184" y="416"/>
                  <a:pt x="256" y="424"/>
                  <a:pt x="288" y="432"/>
                </a:cubicBezTo>
                <a:cubicBezTo>
                  <a:pt x="320" y="440"/>
                  <a:pt x="328" y="432"/>
                  <a:pt x="336" y="4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5929" dir="2028877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486240"/>
            <a:ext cx="1365120" cy="628560"/>
          </a:xfrm>
          <a:custGeom>
            <a:avLst/>
            <a:gdLst/>
            <a:ahLst/>
            <a:rect l="l" t="t" r="r" b="b"/>
            <a:pathLst>
              <a:path w="860" h="396">
                <a:moveTo>
                  <a:pt x="0" y="396"/>
                </a:moveTo>
                <a:cubicBezTo>
                  <a:pt x="21" y="387"/>
                  <a:pt x="84" y="368"/>
                  <a:pt x="124" y="344"/>
                </a:cubicBezTo>
                <a:cubicBezTo>
                  <a:pt x="164" y="320"/>
                  <a:pt x="189" y="291"/>
                  <a:pt x="240" y="252"/>
                </a:cubicBezTo>
                <a:cubicBezTo>
                  <a:pt x="291" y="213"/>
                  <a:pt x="360" y="148"/>
                  <a:pt x="432" y="108"/>
                </a:cubicBezTo>
                <a:cubicBezTo>
                  <a:pt x="504" y="68"/>
                  <a:pt x="601" y="24"/>
                  <a:pt x="672" y="12"/>
                </a:cubicBezTo>
                <a:cubicBezTo>
                  <a:pt x="743" y="0"/>
                  <a:pt x="821" y="31"/>
                  <a:pt x="860" y="36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51560" y="3556080"/>
            <a:ext cx="639720" cy="1422360"/>
          </a:xfrm>
          <a:custGeom>
            <a:avLst/>
            <a:gdLst/>
            <a:ahLst/>
            <a:rect l="l" t="t" r="r" b="b"/>
            <a:pathLst>
              <a:path w="403" h="896">
                <a:moveTo>
                  <a:pt x="260" y="0"/>
                </a:moveTo>
                <a:cubicBezTo>
                  <a:pt x="278" y="18"/>
                  <a:pt x="345" y="57"/>
                  <a:pt x="368" y="108"/>
                </a:cubicBezTo>
                <a:cubicBezTo>
                  <a:pt x="391" y="159"/>
                  <a:pt x="403" y="247"/>
                  <a:pt x="400" y="304"/>
                </a:cubicBezTo>
                <a:cubicBezTo>
                  <a:pt x="397" y="361"/>
                  <a:pt x="376" y="400"/>
                  <a:pt x="352" y="448"/>
                </a:cubicBezTo>
                <a:cubicBezTo>
                  <a:pt x="328" y="496"/>
                  <a:pt x="309" y="524"/>
                  <a:pt x="256" y="592"/>
                </a:cubicBezTo>
                <a:cubicBezTo>
                  <a:pt x="203" y="660"/>
                  <a:pt x="72" y="816"/>
                  <a:pt x="36" y="856"/>
                </a:cubicBezTo>
                <a:cubicBezTo>
                  <a:pt x="0" y="896"/>
                  <a:pt x="39" y="837"/>
                  <a:pt x="40" y="83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6405480" y="4651200"/>
            <a:ext cx="358920" cy="43200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8"/>
          <p:cNvSpPr/>
          <p:nvPr/>
        </p:nvSpPr>
        <p:spPr>
          <a:xfrm rot="2070000">
            <a:off x="6476760" y="4724280"/>
            <a:ext cx="204840" cy="195480"/>
          </a:xfrm>
          <a:prstGeom prst="triangle">
            <a:avLst>
              <a:gd name="adj" fmla="val 53699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7"/>
          <p:cNvSpPr/>
          <p:nvPr/>
        </p:nvSpPr>
        <p:spPr>
          <a:xfrm>
            <a:off x="6994800" y="4876920"/>
            <a:ext cx="17125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ympathetic tru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36760"/>
            <a:ext cx="3962520" cy="2435400"/>
          </a:xfrm>
          <a:custGeom>
            <a:avLst/>
            <a:gdLst/>
            <a:ahLst/>
            <a:rect l="l" t="t" r="r" b="b"/>
            <a:pathLst>
              <a:path w="2496" h="1534">
                <a:moveTo>
                  <a:pt x="2496" y="1081"/>
                </a:moveTo>
                <a:cubicBezTo>
                  <a:pt x="2464" y="1113"/>
                  <a:pt x="2432" y="1145"/>
                  <a:pt x="2400" y="1177"/>
                </a:cubicBezTo>
                <a:cubicBezTo>
                  <a:pt x="2368" y="1209"/>
                  <a:pt x="2344" y="1233"/>
                  <a:pt x="2304" y="1273"/>
                </a:cubicBezTo>
                <a:cubicBezTo>
                  <a:pt x="2264" y="1313"/>
                  <a:pt x="2209" y="1377"/>
                  <a:pt x="2160" y="1417"/>
                </a:cubicBezTo>
                <a:cubicBezTo>
                  <a:pt x="2111" y="1457"/>
                  <a:pt x="2064" y="1497"/>
                  <a:pt x="2008" y="1513"/>
                </a:cubicBezTo>
                <a:cubicBezTo>
                  <a:pt x="1952" y="1529"/>
                  <a:pt x="1886" y="1534"/>
                  <a:pt x="1824" y="1513"/>
                </a:cubicBezTo>
                <a:cubicBezTo>
                  <a:pt x="1762" y="1492"/>
                  <a:pt x="1708" y="1469"/>
                  <a:pt x="1636" y="1389"/>
                </a:cubicBezTo>
                <a:cubicBezTo>
                  <a:pt x="1564" y="1309"/>
                  <a:pt x="1465" y="1156"/>
                  <a:pt x="1392" y="1033"/>
                </a:cubicBezTo>
                <a:cubicBezTo>
                  <a:pt x="1319" y="910"/>
                  <a:pt x="1263" y="768"/>
                  <a:pt x="1200" y="649"/>
                </a:cubicBezTo>
                <a:cubicBezTo>
                  <a:pt x="1137" y="530"/>
                  <a:pt x="1075" y="410"/>
                  <a:pt x="1012" y="317"/>
                </a:cubicBezTo>
                <a:cubicBezTo>
                  <a:pt x="949" y="224"/>
                  <a:pt x="896" y="145"/>
                  <a:pt x="824" y="93"/>
                </a:cubicBezTo>
                <a:cubicBezTo>
                  <a:pt x="752" y="41"/>
                  <a:pt x="701" y="0"/>
                  <a:pt x="580" y="5"/>
                </a:cubicBezTo>
                <a:cubicBezTo>
                  <a:pt x="459" y="10"/>
                  <a:pt x="185" y="102"/>
                  <a:pt x="96" y="121"/>
                </a:cubicBezTo>
                <a:cubicBezTo>
                  <a:pt x="7" y="140"/>
                  <a:pt x="64" y="113"/>
                  <a:pt x="48" y="121"/>
                </a:cubicBezTo>
                <a:cubicBezTo>
                  <a:pt x="32" y="129"/>
                  <a:pt x="0" y="153"/>
                  <a:pt x="0" y="169"/>
                </a:cubicBezTo>
                <a:cubicBezTo>
                  <a:pt x="0" y="185"/>
                  <a:pt x="40" y="209"/>
                  <a:pt x="48" y="217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038480" y="4267080"/>
            <a:ext cx="22100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sympathetic trunk gang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4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5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9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4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5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8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2000"/>
                            </p:stCondLst>
                            <p:childTnLst>
                              <p:par>
                                <p:cTn id="8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7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8" dur="1000" autoRev="1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4000"/>
                            </p:stCondLst>
                            <p:childTnLst>
                              <p:par>
                                <p:cTn id="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7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8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2000"/>
                            </p:stCondLst>
                            <p:childTnLst>
                              <p:par>
                                <p:cTn id="1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4000"/>
                            </p:stCondLst>
                            <p:childTnLst>
                              <p:par>
                                <p:cTn id="11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7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8" dur="50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3T02:39:03Z</dcterms:created>
  <dc:creator>Анечка</dc:creator>
  <dc:description/>
  <dc:language>en-US</dc:language>
  <cp:lastModifiedBy>user-ilya</cp:lastModifiedBy>
  <dcterms:modified xsi:type="dcterms:W3CDTF">2016-11-04T13:09:3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