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34F-5425-448C-A498-0FBE6604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E01-5892-4F3E-9397-6E10D331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BC4-CB75-4F3B-B0F3-E4F18C7D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0D5-E9E3-4365-A866-BA8E10E9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254-5925-4EDD-9DFD-D853F200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7A0-77CE-4FB2-8F0E-68994B89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2EE-01C1-4451-B63C-6D912B2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4BF-01F9-4129-9FB1-29D9FD5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B57-6A70-4F81-9D05-576B7386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57E-9F5B-41CB-ACEC-2BEEAB5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49D-82FB-48A5-B8A6-063FFAA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20C-1E34-48A1-9866-2C9EAF22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5207-6974-4D32-BDDA-9EE577A4F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athetic innervation of ey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nervation of the pupillary di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0366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431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0434"/>
          <p:cNvPicPr/>
          <p:nvPr/>
        </p:nvPicPr>
        <p:blipFill>
          <a:blip r:embed="rId2"/>
          <a:stretch/>
        </p:blipFill>
        <p:spPr>
          <a:xfrm>
            <a:off x="4724280" y="2819520"/>
            <a:ext cx="4038840" cy="2163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900000" y="47242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11280" y="5084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68360" y="5445000"/>
            <a:ext cx="8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8675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8101080" y="3716280"/>
            <a:ext cx="79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H="1">
            <a:off x="7380000" y="3716280"/>
            <a:ext cx="6476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"/>
          <p:cNvSpPr/>
          <p:nvPr/>
        </p:nvSpPr>
        <p:spPr>
          <a:xfrm>
            <a:off x="7380360" y="3429000"/>
            <a:ext cx="144360" cy="576360"/>
          </a:xfrm>
          <a:prstGeom prst="pie">
            <a:avLst/>
          </a:prstGeom>
          <a:noFill/>
          <a:ln w="57240">
            <a:solidFill>
              <a:srgbClr val="ff9933"/>
            </a:solidFill>
            <a:round/>
          </a:ln>
          <a:effectLst>
            <a:outerShdw dist="17819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980400" y="3017880"/>
            <a:ext cx="712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2484360" y="1701720"/>
            <a:ext cx="4908600" cy="221940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289120" y="1905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retin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403280" y="1268280"/>
            <a:ext cx="30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cleus of superior collic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1150920" y="4508640"/>
            <a:ext cx="757080" cy="7207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8"/>
          <p:cNvSpPr/>
          <p:nvPr/>
        </p:nvSpPr>
        <p:spPr>
          <a:xfrm>
            <a:off x="923760" y="4724280"/>
            <a:ext cx="623880" cy="887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0" y="3078000"/>
            <a:ext cx="241128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fferent impulse via the posterior longitudinal fasciculus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intermediolateral nuc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2411280" y="3573360"/>
            <a:ext cx="289080" cy="2872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2195640" y="4365720"/>
            <a:ext cx="287280" cy="2872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819520" y="3649680"/>
            <a:ext cx="18730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uperior cervic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2843280" y="4213080"/>
            <a:ext cx="1812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iddle cervic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2556000" y="5257800"/>
            <a:ext cx="2260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tellate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 flipV="1" rot="10800000">
            <a:off x="380880" y="6019560"/>
            <a:ext cx="36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6"/>
          <p:cNvSpPr/>
          <p:nvPr/>
        </p:nvSpPr>
        <p:spPr>
          <a:xfrm>
            <a:off x="2484360" y="1844640"/>
            <a:ext cx="5454720" cy="22654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843280" y="2811600"/>
            <a:ext cx="22334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passing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lexus ophtalmi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8"/>
          <p:cNvSpPr/>
          <p:nvPr/>
        </p:nvSpPr>
        <p:spPr>
          <a:xfrm>
            <a:off x="8015400" y="3573360"/>
            <a:ext cx="12600" cy="2160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8028000" y="3809880"/>
            <a:ext cx="11160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usc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ilata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upill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0"/>
          <p:cNvSpPr/>
          <p:nvPr/>
        </p:nvSpPr>
        <p:spPr>
          <a:xfrm>
            <a:off x="1835280" y="5084640"/>
            <a:ext cx="431640" cy="55404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1"/>
          <p:cNvSpPr/>
          <p:nvPr/>
        </p:nvSpPr>
        <p:spPr>
          <a:xfrm>
            <a:off x="1692360" y="5661000"/>
            <a:ext cx="287280" cy="2872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1547640" y="479736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1332000" y="5084640"/>
            <a:ext cx="21564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1187280" y="544500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2590920" y="5514840"/>
            <a:ext cx="2273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econd thorac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6"/>
          <p:cNvSpPr/>
          <p:nvPr/>
        </p:nvSpPr>
        <p:spPr>
          <a:xfrm rot="5758800">
            <a:off x="1169640" y="5533560"/>
            <a:ext cx="210960" cy="176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7"/>
          <p:cNvSpPr/>
          <p:nvPr/>
        </p:nvSpPr>
        <p:spPr>
          <a:xfrm rot="5758800">
            <a:off x="1313640" y="5175000"/>
            <a:ext cx="211320" cy="1760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8"/>
          <p:cNvSpPr/>
          <p:nvPr/>
        </p:nvSpPr>
        <p:spPr>
          <a:xfrm rot="11470800">
            <a:off x="1547280" y="4868280"/>
            <a:ext cx="21276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9"/>
          <p:cNvSpPr/>
          <p:nvPr/>
        </p:nvSpPr>
        <p:spPr>
          <a:xfrm>
            <a:off x="1692360" y="5013360"/>
            <a:ext cx="431640" cy="287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0"/>
          <p:cNvSpPr/>
          <p:nvPr/>
        </p:nvSpPr>
        <p:spPr>
          <a:xfrm>
            <a:off x="1476360" y="5300640"/>
            <a:ext cx="658800" cy="2286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1"/>
          <p:cNvSpPr/>
          <p:nvPr/>
        </p:nvSpPr>
        <p:spPr>
          <a:xfrm>
            <a:off x="1332000" y="5373720"/>
            <a:ext cx="792000" cy="5508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>
            <a:off x="2124000" y="3789360"/>
            <a:ext cx="432000" cy="1511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3"/>
          <p:cNvSpPr/>
          <p:nvPr/>
        </p:nvSpPr>
        <p:spPr>
          <a:xfrm rot="393000">
            <a:off x="2484360" y="3644640"/>
            <a:ext cx="20952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4"/>
          <p:cNvSpPr/>
          <p:nvPr/>
        </p:nvSpPr>
        <p:spPr>
          <a:xfrm>
            <a:off x="2556000" y="4724280"/>
            <a:ext cx="35398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pulse passing via the inter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5"/>
          <p:cNvSpPr/>
          <p:nvPr/>
        </p:nvSpPr>
        <p:spPr>
          <a:xfrm>
            <a:off x="5219640" y="3573360"/>
            <a:ext cx="1008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6"/>
          <p:cNvSpPr/>
          <p:nvPr/>
        </p:nvSpPr>
        <p:spPr>
          <a:xfrm>
            <a:off x="6136560" y="4440240"/>
            <a:ext cx="208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ilation of pu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7"/>
          <p:cNvSpPr/>
          <p:nvPr/>
        </p:nvSpPr>
        <p:spPr>
          <a:xfrm rot="2276400">
            <a:off x="7884720" y="3789360"/>
            <a:ext cx="220680" cy="154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8"/>
          <p:cNvSpPr/>
          <p:nvPr/>
        </p:nvSpPr>
        <p:spPr>
          <a:xfrm flipH="1">
            <a:off x="7956720" y="3157560"/>
            <a:ext cx="1187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ght 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9"/>
          <p:cNvSpPr/>
          <p:nvPr/>
        </p:nvSpPr>
        <p:spPr>
          <a:xfrm>
            <a:off x="1619280" y="1930320"/>
            <a:ext cx="804960" cy="3011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0"/>
          <p:cNvSpPr/>
          <p:nvPr/>
        </p:nvSpPr>
        <p:spPr>
          <a:xfrm>
            <a:off x="2411280" y="1844640"/>
            <a:ext cx="144720" cy="14436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2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4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6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8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" dur="10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" dur="10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6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8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3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5000"/>
                            </p:stCondLst>
                            <p:childTnLst>
                              <p:par>
                                <p:cTn id="1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7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7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9000"/>
                            </p:stCondLst>
                            <p:childTnLst>
                              <p:par>
                                <p:cTn id="2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10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1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3000"/>
                            </p:stCondLst>
                            <p:childTnLst>
                              <p:par>
                                <p:cTn id="2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6000"/>
                            </p:stCondLst>
                            <p:childTnLst>
                              <p:par>
                                <p:cTn id="2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0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8:16:44Z</dcterms:created>
  <dc:creator>Анечка</dc:creator>
  <dc:description/>
  <dc:language>en-US</dc:language>
  <cp:lastModifiedBy>user-ilya</cp:lastModifiedBy>
  <dcterms:modified xsi:type="dcterms:W3CDTF">2016-10-29T10:37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