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03E-48A3-4160-A0D4-879227EC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83F-7ACC-49CD-A2E7-C6004DCA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239-E221-4574-BA03-2DB89AD1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9A3-9D7A-4CA4-9A0C-9781A5D1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556-958C-4DD1-9485-53986621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F44-AA45-4137-8E7F-AD8FFB6B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920-3D3E-41C8-B179-FBB09284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118-CE63-4DDD-9CBE-A8885331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488-BBF7-4229-B289-6D51A596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FF9-B6B3-47D8-91F9-CA09F3DC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303-5DB9-4090-9BF7-800A66A8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130-3127-4FF8-900F-2B953560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4B66-00B4-4CD6-AD7D-FFC6407E3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11"/>
          <p:cNvPicPr/>
          <p:nvPr/>
        </p:nvPicPr>
        <p:blipFill>
          <a:blip r:embed="rId1"/>
          <a:stretch/>
        </p:blipFill>
        <p:spPr>
          <a:xfrm>
            <a:off x="0" y="1523880"/>
            <a:ext cx="3691080" cy="452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sympathetic innervation of eye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pillary refle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0434"/>
          <p:cNvPicPr/>
          <p:nvPr/>
        </p:nvPicPr>
        <p:blipFill>
          <a:blip r:embed="rId2"/>
          <a:stretch/>
        </p:blipFill>
        <p:spPr>
          <a:xfrm>
            <a:off x="4716360" y="2781360"/>
            <a:ext cx="4038840" cy="21636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/>
          <p:cNvSpPr/>
          <p:nvPr/>
        </p:nvSpPr>
        <p:spPr>
          <a:xfrm>
            <a:off x="7093080" y="3789360"/>
            <a:ext cx="21564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 flipH="1">
            <a:off x="8101080" y="3716280"/>
            <a:ext cx="79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7380000" y="3716280"/>
            <a:ext cx="6476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>
            <a:off x="7380360" y="3429000"/>
            <a:ext cx="144360" cy="576360"/>
          </a:xfrm>
          <a:prstGeom prst="pie">
            <a:avLst/>
          </a:prstGeom>
          <a:noFill/>
          <a:ln w="57240">
            <a:solidFill>
              <a:srgbClr val="ff9933"/>
            </a:solidFill>
            <a:round/>
          </a:ln>
          <a:effectLst>
            <a:outerShdw dist="17819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1755720" y="2322360"/>
            <a:ext cx="5648400" cy="1482840"/>
          </a:xfrm>
          <a:prstGeom prst="pie">
            <a:avLst/>
          </a:prstGeom>
          <a:noFill/>
          <a:ln w="38160">
            <a:solidFill>
              <a:srgbClr val="33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740720" y="3213000"/>
            <a:ext cx="12920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ght 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927840" y="2924280"/>
            <a:ext cx="10922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716360" y="1916280"/>
            <a:ext cx="40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from retina via the optic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 flipV="1" rot="10800000">
            <a:off x="874800" y="1915920"/>
            <a:ext cx="29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cleus of superior collicu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2421000"/>
            <a:ext cx="19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witching of impu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286000" y="3048120"/>
            <a:ext cx="2303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dinger-Westphal`s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1619280" y="2492280"/>
            <a:ext cx="216000" cy="21600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2268360" y="2781360"/>
            <a:ext cx="21600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 rot="17433000">
            <a:off x="1595520" y="2671560"/>
            <a:ext cx="547560" cy="842760"/>
          </a:xfrm>
          <a:custGeom>
            <a:avLst/>
            <a:gdLst>
              <a:gd name="textAreaLeft" fmla="*/ 73080 w 547560"/>
              <a:gd name="textAreaRight" fmla="*/ 474480 w 547560"/>
              <a:gd name="textAreaTop" fmla="*/ 147240 h 842760"/>
              <a:gd name="textAreaBottom" fmla="*/ 610920 h 84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 rot="2097000">
            <a:off x="2268000" y="2781000"/>
            <a:ext cx="201960" cy="1429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0"/>
          <p:cNvSpPr/>
          <p:nvPr/>
        </p:nvSpPr>
        <p:spPr>
          <a:xfrm>
            <a:off x="2424240" y="2700360"/>
            <a:ext cx="4668840" cy="12556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/>
          <p:cNvSpPr/>
          <p:nvPr/>
        </p:nvSpPr>
        <p:spPr>
          <a:xfrm rot="2097000">
            <a:off x="7092720" y="3789000"/>
            <a:ext cx="201600" cy="1429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411280" y="3284640"/>
            <a:ext cx="223200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ssing via the oculomotor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649620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6248520" y="4038480"/>
            <a:ext cx="17161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anglion cili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5"/>
          <p:cNvSpPr/>
          <p:nvPr/>
        </p:nvSpPr>
        <p:spPr>
          <a:xfrm>
            <a:off x="8015400" y="3573360"/>
            <a:ext cx="12600" cy="21600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6"/>
          <p:cNvSpPr/>
          <p:nvPr/>
        </p:nvSpPr>
        <p:spPr>
          <a:xfrm>
            <a:off x="7308720" y="3889440"/>
            <a:ext cx="615960" cy="12384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8028000" y="3860640"/>
            <a:ext cx="111600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uscu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hinc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upill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5651640" y="4149720"/>
            <a:ext cx="230508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lionic fibres passing vis the short ciliary n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6877080" y="472428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5724360" y="5445000"/>
            <a:ext cx="266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nstriction of pup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1"/>
          <p:cNvSpPr/>
          <p:nvPr/>
        </p:nvSpPr>
        <p:spPr>
          <a:xfrm rot="1476000">
            <a:off x="7884720" y="3789360"/>
            <a:ext cx="212760" cy="14760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3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0"/>
                            </p:stCondLst>
                            <p:childTnLst>
                              <p:par>
                                <p:cTn id="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7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4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5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6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8000"/>
                            </p:stCondLst>
                            <p:childTnLst>
                              <p:par>
                                <p:cTn id="1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10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3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0"/>
                            </p:stCondLst>
                            <p:childTnLst>
                              <p:par>
                                <p:cTn id="15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3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3:55:17Z</dcterms:created>
  <dc:creator>Анечка</dc:creator>
  <dc:description/>
  <dc:language>en-US</dc:language>
  <cp:lastModifiedBy>user-ilya</cp:lastModifiedBy>
  <dcterms:modified xsi:type="dcterms:W3CDTF">2016-10-28T04:44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