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AEA9-F35C-4472-A444-CDA5DDDB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F38C-EF97-492C-A49C-CF32717B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0D2A-ACFD-46D8-B3FE-77DA7A29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38C9-1882-417A-BA9C-358BF96E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0C37-1403-4DCB-BF15-D43CC54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8DA5-25BE-410E-B554-D844ACC2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7BE4-A28C-417E-9294-D8E27B39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D14-7472-40BE-8226-996FAFBC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BC0-F6CE-45B9-87BD-2D7CD4DC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DD85-9239-41BF-B280-78EDB4C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686-9BC4-4451-B760-B5249FC5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648B-25E2-4E66-B0B5-F2463728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48D-B9CC-4867-8F5B-9F3C98FA92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011"/>
          <p:cNvPicPr/>
          <p:nvPr/>
        </p:nvPicPr>
        <p:blipFill>
          <a:blip r:embed="rId1"/>
          <a:stretch/>
        </p:blipFill>
        <p:spPr>
          <a:xfrm>
            <a:off x="0" y="1523880"/>
            <a:ext cx="3691080" cy="452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of eye</a:t>
            </a:r>
            <a:br>
              <a:rPr sz="36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pillary refle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0434"/>
          <p:cNvPicPr/>
          <p:nvPr/>
        </p:nvPicPr>
        <p:blipFill>
          <a:blip r:embed="rId2"/>
          <a:stretch/>
        </p:blipFill>
        <p:spPr>
          <a:xfrm>
            <a:off x="4716360" y="2781360"/>
            <a:ext cx="4038840" cy="21636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5"/>
          <p:cNvSpPr/>
          <p:nvPr/>
        </p:nvSpPr>
        <p:spPr>
          <a:xfrm>
            <a:off x="7093080" y="3789360"/>
            <a:ext cx="21564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 flipH="1">
            <a:off x="8101080" y="3716280"/>
            <a:ext cx="79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7"/>
          <p:cNvSpPr/>
          <p:nvPr/>
        </p:nvSpPr>
        <p:spPr>
          <a:xfrm flipH="1">
            <a:off x="7380000" y="3716280"/>
            <a:ext cx="6476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>
            <a:off x="7380360" y="3429000"/>
            <a:ext cx="144360" cy="576360"/>
          </a:xfrm>
          <a:prstGeom prst="pie">
            <a:avLst/>
          </a:prstGeom>
          <a:noFill/>
          <a:ln w="57240">
            <a:solidFill>
              <a:srgbClr val="ff9933"/>
            </a:solidFill>
            <a:round/>
          </a:ln>
          <a:effectLst>
            <a:outerShdw dist="17819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>
            <a:off x="1755720" y="2322360"/>
            <a:ext cx="5648400" cy="148284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7740720" y="3213000"/>
            <a:ext cx="12920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ght 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927840" y="2924280"/>
            <a:ext cx="10922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4716360" y="191628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retina via the optic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 flipV="1" rot="10800000">
            <a:off x="874800" y="1915920"/>
            <a:ext cx="29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of superior collicu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2421000"/>
            <a:ext cx="19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witching of impu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2286000" y="3048120"/>
            <a:ext cx="2303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dinger-Westphal`s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>
            <a:off x="1619280" y="2492280"/>
            <a:ext cx="21600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2268360" y="278136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 rot="17433000">
            <a:off x="1595520" y="2671560"/>
            <a:ext cx="547560" cy="842760"/>
          </a:xfrm>
          <a:custGeom>
            <a:avLst/>
            <a:gdLst>
              <a:gd name="textAreaLeft" fmla="*/ 73080 w 547560"/>
              <a:gd name="textAreaRight" fmla="*/ 474480 w 547560"/>
              <a:gd name="textAreaTop" fmla="*/ 147240 h 842760"/>
              <a:gd name="textAreaBottom" fmla="*/ 610920 h 842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9"/>
          <p:cNvSpPr/>
          <p:nvPr/>
        </p:nvSpPr>
        <p:spPr>
          <a:xfrm rot="2097000">
            <a:off x="2268000" y="2781000"/>
            <a:ext cx="20196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0"/>
          <p:cNvSpPr/>
          <p:nvPr/>
        </p:nvSpPr>
        <p:spPr>
          <a:xfrm>
            <a:off x="2424240" y="2700360"/>
            <a:ext cx="4668840" cy="12556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1"/>
          <p:cNvSpPr/>
          <p:nvPr/>
        </p:nvSpPr>
        <p:spPr>
          <a:xfrm rot="2097000">
            <a:off x="7092720" y="3789000"/>
            <a:ext cx="20160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2"/>
          <p:cNvSpPr/>
          <p:nvPr/>
        </p:nvSpPr>
        <p:spPr>
          <a:xfrm>
            <a:off x="2411280" y="3284640"/>
            <a:ext cx="2232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ssing via the oculomotor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649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6248520" y="4038480"/>
            <a:ext cx="17161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 cili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5"/>
          <p:cNvSpPr/>
          <p:nvPr/>
        </p:nvSpPr>
        <p:spPr>
          <a:xfrm>
            <a:off x="8015400" y="3573360"/>
            <a:ext cx="12600" cy="2160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6"/>
          <p:cNvSpPr/>
          <p:nvPr/>
        </p:nvSpPr>
        <p:spPr>
          <a:xfrm>
            <a:off x="7308720" y="3889440"/>
            <a:ext cx="615960" cy="1238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8028000" y="3860640"/>
            <a:ext cx="1116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scu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hinc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upill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8"/>
          <p:cNvSpPr/>
          <p:nvPr/>
        </p:nvSpPr>
        <p:spPr>
          <a:xfrm>
            <a:off x="5651640" y="4149720"/>
            <a:ext cx="23050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lionic fibres passing vis the short ciliary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6877080" y="4724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0"/>
          <p:cNvSpPr/>
          <p:nvPr/>
        </p:nvSpPr>
        <p:spPr>
          <a:xfrm>
            <a:off x="5724360" y="5445000"/>
            <a:ext cx="2664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striction of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1"/>
          <p:cNvSpPr/>
          <p:nvPr/>
        </p:nvSpPr>
        <p:spPr>
          <a:xfrm rot="1476000">
            <a:off x="7884720" y="3789360"/>
            <a:ext cx="212760" cy="147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0"/>
                            </p:stCondLst>
                            <p:childTnLst>
                              <p:par>
                                <p:cTn id="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4000"/>
                            </p:stCondLst>
                            <p:childTnLst>
                              <p:par>
                                <p:cTn id="5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1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2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1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33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5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7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2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8000"/>
                            </p:stCondLst>
                            <p:childTnLst>
                              <p:par>
                                <p:cTn id="1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10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3000"/>
                            </p:stCondLst>
                            <p:childTnLst>
                              <p:par>
                                <p:cTn id="1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65000"/>
                            </p:stCondLst>
                            <p:childTnLst>
                              <p:par>
                                <p:cTn id="15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3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4" dur="1000" autoRev="1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3:55:17Z</dcterms:created>
  <dc:creator>Анечка</dc:creator>
  <dc:description/>
  <dc:language>en-US</dc:language>
  <cp:lastModifiedBy>user-ilya</cp:lastModifiedBy>
  <dcterms:modified xsi:type="dcterms:W3CDTF">2016-10-28T04:44:46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