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5E0D-12BB-4724-84D3-9D4401C46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5CA0-409D-492B-A305-FF22A0A9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158A-BF1E-4CCF-8B65-8EAEF293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7050-825E-44F6-9204-6AB0F16E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AAFE-E462-4172-8A13-530EAEF3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FC2A-5406-4031-A8B6-AC06DDF6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27AF-03F0-4C3C-BDA1-14077669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9659-DEDE-4D8E-A7D2-F82D7A01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EC15-1AF9-4A56-BA7C-56A0F308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B26B-612E-4D7B-93D2-1201D1EE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133B-D9AD-4B30-B627-18082453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5C9C-4FF1-4BDB-BBD6-841CD5DC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5AEA-E049-46BE-98E4-1A3B160D31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asympathetic innerv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 urinary blad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002"/>
          <p:cNvPicPr/>
          <p:nvPr/>
        </p:nvPicPr>
        <p:blipFill>
          <a:blip r:embed="rId1"/>
          <a:stretch/>
        </p:blipFill>
        <p:spPr>
          <a:xfrm>
            <a:off x="1116000" y="3213000"/>
            <a:ext cx="2649600" cy="1582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P0170"/>
          <p:cNvPicPr/>
          <p:nvPr/>
        </p:nvPicPr>
        <p:blipFill>
          <a:blip r:embed="rId2"/>
          <a:stretch/>
        </p:blipFill>
        <p:spPr>
          <a:xfrm>
            <a:off x="5029200" y="2209680"/>
            <a:ext cx="3311640" cy="3311640"/>
          </a:xfrm>
          <a:prstGeom prst="rect">
            <a:avLst/>
          </a:prstGeom>
          <a:ln w="0">
            <a:noFill/>
          </a:ln>
        </p:spPr>
      </p:pic>
      <p:sp>
        <p:nvSpPr>
          <p:cNvPr id="44" name="Oval 7"/>
          <p:cNvSpPr/>
          <p:nvPr/>
        </p:nvSpPr>
        <p:spPr>
          <a:xfrm>
            <a:off x="6300720" y="3645000"/>
            <a:ext cx="287280" cy="287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3564000" y="2997360"/>
            <a:ext cx="287280" cy="287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457200" y="541008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acral spinal 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2 , S3 , S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1692360" y="3645000"/>
            <a:ext cx="215640" cy="215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"/>
          <p:cNvSpPr/>
          <p:nvPr/>
        </p:nvSpPr>
        <p:spPr>
          <a:xfrm>
            <a:off x="2987640" y="3645000"/>
            <a:ext cx="216000" cy="215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3419640" y="2209680"/>
            <a:ext cx="572436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fferent impulse from urinary bladder via the pelvic splanchnic ner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3"/>
          <p:cNvSpPr/>
          <p:nvPr/>
        </p:nvSpPr>
        <p:spPr>
          <a:xfrm>
            <a:off x="2916360" y="3135240"/>
            <a:ext cx="639720" cy="522360"/>
          </a:xfrm>
          <a:prstGeom prst="pie">
            <a:avLst/>
          </a:prstGeom>
          <a:noFill/>
          <a:ln w="38160">
            <a:solidFill>
              <a:srgbClr val="0066ff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4"/>
          <p:cNvSpPr/>
          <p:nvPr/>
        </p:nvSpPr>
        <p:spPr>
          <a:xfrm rot="9077400">
            <a:off x="2987280" y="3716280"/>
            <a:ext cx="212760" cy="1080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3348000" y="3297240"/>
            <a:ext cx="21607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arasympathetic sacral nuc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>
            <a:off x="2975040" y="3333600"/>
            <a:ext cx="3352680" cy="114480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2916360" y="4724280"/>
            <a:ext cx="403200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egnaglionic fibres via pelvi splanchnic ner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4932360" y="4038480"/>
            <a:ext cx="24480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arasympathetic 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9"/>
          <p:cNvSpPr/>
          <p:nvPr/>
        </p:nvSpPr>
        <p:spPr>
          <a:xfrm rot="10476000">
            <a:off x="6371640" y="3715920"/>
            <a:ext cx="215640" cy="14436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0"/>
          <p:cNvSpPr/>
          <p:nvPr/>
        </p:nvSpPr>
        <p:spPr>
          <a:xfrm>
            <a:off x="6516720" y="3860640"/>
            <a:ext cx="5032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6948360" y="3200400"/>
            <a:ext cx="219564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ostganglionic fi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>
            <a:off x="7524720" y="3933720"/>
            <a:ext cx="0" cy="11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5148360" y="5229360"/>
            <a:ext cx="399564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Relaxation of the bladder`s internal sphincter and contraction of the detru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4"/>
          <p:cNvSpPr/>
          <p:nvPr/>
        </p:nvSpPr>
        <p:spPr>
          <a:xfrm>
            <a:off x="2590920" y="2666880"/>
            <a:ext cx="19047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pinal 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5"/>
          <p:cNvSpPr/>
          <p:nvPr/>
        </p:nvSpPr>
        <p:spPr>
          <a:xfrm rot="18367200">
            <a:off x="6626160" y="3461760"/>
            <a:ext cx="198360" cy="13176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78120" y="3216240"/>
            <a:ext cx="3027600" cy="936720"/>
          </a:xfrm>
          <a:custGeom>
            <a:avLst/>
            <a:gdLst/>
            <a:ahLst/>
            <a:rect l="l" t="t" r="r" b="b"/>
            <a:pathLst>
              <a:path w="1907" h="590">
                <a:moveTo>
                  <a:pt x="1907" y="182"/>
                </a:moveTo>
                <a:cubicBezTo>
                  <a:pt x="1751" y="106"/>
                  <a:pt x="1595" y="30"/>
                  <a:pt x="1427" y="38"/>
                </a:cubicBezTo>
                <a:cubicBezTo>
                  <a:pt x="1259" y="46"/>
                  <a:pt x="1075" y="142"/>
                  <a:pt x="899" y="230"/>
                </a:cubicBezTo>
                <a:cubicBezTo>
                  <a:pt x="723" y="318"/>
                  <a:pt x="507" y="542"/>
                  <a:pt x="371" y="566"/>
                </a:cubicBezTo>
                <a:cubicBezTo>
                  <a:pt x="235" y="590"/>
                  <a:pt x="145" y="468"/>
                  <a:pt x="83" y="374"/>
                </a:cubicBezTo>
                <a:cubicBezTo>
                  <a:pt x="21" y="280"/>
                  <a:pt x="17" y="78"/>
                  <a:pt x="0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10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8" dur="10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" dur="10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9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3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80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2000"/>
                            </p:stCondLst>
                            <p:childTnLst>
                              <p:par>
                                <p:cTn id="7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3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4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90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1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3000"/>
                            </p:stCondLst>
                            <p:childTnLst>
                              <p:par>
                                <p:cTn id="9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100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5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7000"/>
                            </p:stCondLst>
                            <p:childTnLst>
                              <p:par>
                                <p:cTn id="10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100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3" dur="100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" dur="100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6T13:00:20Z</dcterms:created>
  <dc:creator>Анечка</dc:creator>
  <dc:description/>
  <dc:language>en-US</dc:language>
  <cp:lastModifiedBy>user-ilya</cp:lastModifiedBy>
  <dcterms:modified xsi:type="dcterms:W3CDTF">2016-11-06T13:44:3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