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F74-52CB-43D7-97A9-09573C13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6C2E-B14D-4F36-89C7-7313C62F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52C1-BEB9-485C-9DD5-8A960DD2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833-6BB4-4504-BA37-3B3A1B4D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66F7-4B54-4088-A19A-A3900BA4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98B-6381-4594-869B-6A55BDC6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CA4E-46DF-4697-83BA-A5E34116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FB2-E48A-4C2B-A606-ED573805E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5B8-059D-40BA-9780-4EC480E0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6161-641E-4BEC-B3D2-BE6BD05C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4663-F933-4AD3-A7B8-CF565084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7DE-0CAC-460C-B5E8-EEE699DC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080D-031F-443D-99A0-02756BA82F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urinary blad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002"/>
          <p:cNvPicPr/>
          <p:nvPr/>
        </p:nvPicPr>
        <p:blipFill>
          <a:blip r:embed="rId1"/>
          <a:stretch/>
        </p:blipFill>
        <p:spPr>
          <a:xfrm>
            <a:off x="1116000" y="3213000"/>
            <a:ext cx="2649600" cy="1582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170"/>
          <p:cNvPicPr/>
          <p:nvPr/>
        </p:nvPicPr>
        <p:blipFill>
          <a:blip r:embed="rId2"/>
          <a:stretch/>
        </p:blipFill>
        <p:spPr>
          <a:xfrm>
            <a:off x="5029200" y="220968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44" name="Oval 7"/>
          <p:cNvSpPr/>
          <p:nvPr/>
        </p:nvSpPr>
        <p:spPr>
          <a:xfrm>
            <a:off x="6300720" y="3645000"/>
            <a:ext cx="287280" cy="287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3564000" y="2997360"/>
            <a:ext cx="287280" cy="287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457200" y="541008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acral spinal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2 , S3 , S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>
            <a:off x="1692360" y="3645000"/>
            <a:ext cx="21564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0"/>
          <p:cNvSpPr/>
          <p:nvPr/>
        </p:nvSpPr>
        <p:spPr>
          <a:xfrm>
            <a:off x="2987640" y="3645000"/>
            <a:ext cx="216000" cy="215640"/>
          </a:xfrm>
          <a:prstGeom prst="octagon">
            <a:avLst>
              <a:gd name="adj" fmla="val 29287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3419640" y="2209680"/>
            <a:ext cx="5724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urinary bladder via the pelvic splanchni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3"/>
          <p:cNvSpPr/>
          <p:nvPr/>
        </p:nvSpPr>
        <p:spPr>
          <a:xfrm>
            <a:off x="2916360" y="3135240"/>
            <a:ext cx="639720" cy="522360"/>
          </a:xfrm>
          <a:prstGeom prst="pie">
            <a:avLst/>
          </a:prstGeom>
          <a:noFill/>
          <a:ln w="38160">
            <a:solidFill>
              <a:srgbClr val="00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/>
          <p:cNvSpPr/>
          <p:nvPr/>
        </p:nvSpPr>
        <p:spPr>
          <a:xfrm rot="9077400">
            <a:off x="2987280" y="3716280"/>
            <a:ext cx="212760" cy="1080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5"/>
          <p:cNvSpPr/>
          <p:nvPr/>
        </p:nvSpPr>
        <p:spPr>
          <a:xfrm>
            <a:off x="3348000" y="3297240"/>
            <a:ext cx="2160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sacral nuc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>
            <a:off x="2975040" y="3333600"/>
            <a:ext cx="3352680" cy="114480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7"/>
          <p:cNvSpPr/>
          <p:nvPr/>
        </p:nvSpPr>
        <p:spPr>
          <a:xfrm>
            <a:off x="2916360" y="4724280"/>
            <a:ext cx="40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naglionic fibres via pelvi splanchnic ner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4932360" y="4038480"/>
            <a:ext cx="24480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9"/>
          <p:cNvSpPr/>
          <p:nvPr/>
        </p:nvSpPr>
        <p:spPr>
          <a:xfrm rot="10476000">
            <a:off x="6371640" y="3715920"/>
            <a:ext cx="215640" cy="1443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0"/>
          <p:cNvSpPr/>
          <p:nvPr/>
        </p:nvSpPr>
        <p:spPr>
          <a:xfrm>
            <a:off x="6516720" y="3860640"/>
            <a:ext cx="503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6948360" y="3200400"/>
            <a:ext cx="219564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2"/>
          <p:cNvSpPr/>
          <p:nvPr/>
        </p:nvSpPr>
        <p:spPr>
          <a:xfrm>
            <a:off x="7524720" y="3933720"/>
            <a:ext cx="0" cy="11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3"/>
          <p:cNvSpPr/>
          <p:nvPr/>
        </p:nvSpPr>
        <p:spPr>
          <a:xfrm>
            <a:off x="5148360" y="5229360"/>
            <a:ext cx="399564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Relaxation of the bladder`s internal sphincter and contraction of the detru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4"/>
          <p:cNvSpPr/>
          <p:nvPr/>
        </p:nvSpPr>
        <p:spPr>
          <a:xfrm>
            <a:off x="2590920" y="2666880"/>
            <a:ext cx="19047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p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25"/>
          <p:cNvSpPr/>
          <p:nvPr/>
        </p:nvSpPr>
        <p:spPr>
          <a:xfrm rot="18367200">
            <a:off x="6626160" y="3461760"/>
            <a:ext cx="198360" cy="13176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78120" y="3216240"/>
            <a:ext cx="3027600" cy="936720"/>
          </a:xfrm>
          <a:custGeom>
            <a:avLst/>
            <a:gdLst/>
            <a:ahLst/>
            <a:rect l="l" t="t" r="r" b="b"/>
            <a:pathLst>
              <a:path w="1907" h="590">
                <a:moveTo>
                  <a:pt x="1907" y="182"/>
                </a:moveTo>
                <a:cubicBezTo>
                  <a:pt x="1751" y="106"/>
                  <a:pt x="1595" y="30"/>
                  <a:pt x="1427" y="38"/>
                </a:cubicBezTo>
                <a:cubicBezTo>
                  <a:pt x="1259" y="46"/>
                  <a:pt x="1075" y="142"/>
                  <a:pt x="899" y="230"/>
                </a:cubicBezTo>
                <a:cubicBezTo>
                  <a:pt x="723" y="318"/>
                  <a:pt x="507" y="542"/>
                  <a:pt x="371" y="566"/>
                </a:cubicBezTo>
                <a:cubicBezTo>
                  <a:pt x="235" y="590"/>
                  <a:pt x="145" y="468"/>
                  <a:pt x="83" y="374"/>
                </a:cubicBezTo>
                <a:cubicBezTo>
                  <a:pt x="21" y="280"/>
                  <a:pt x="17" y="78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1000" autoRev="1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2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8000"/>
                            </p:stCondLst>
                            <p:childTnLst>
                              <p:par>
                                <p:cTn id="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2000"/>
                            </p:stCondLst>
                            <p:childTnLst>
                              <p:par>
                                <p:cTn id="7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2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3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4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40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90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3000"/>
                            </p:stCondLst>
                            <p:childTnLst>
                              <p:par>
                                <p:cTn id="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100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7000"/>
                            </p:stCondLst>
                            <p:childTnLst>
                              <p:par>
                                <p:cTn id="101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3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4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6T13:00:20Z</dcterms:created>
  <dc:creator>Анечка</dc:creator>
  <dc:description/>
  <dc:language>en-US</dc:language>
  <cp:lastModifiedBy>user-ilya</cp:lastModifiedBy>
  <dcterms:modified xsi:type="dcterms:W3CDTF">2016-11-06T13:44:3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