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760-3ACE-45BA-B8ED-269EE450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4BE-AF79-47B3-9117-27412727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6C1-915C-4406-9086-8E51DF01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EAE-A751-4157-86B1-3E94F850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2C4-6C1A-4EFF-8769-0611453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37E-B237-48C9-A5AA-54F4B56E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CB3-5A03-4853-9AE9-FD8F47B4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A38-DD12-4766-BF04-A5397A0C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346-6F2E-4A56-AE45-19D73F8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F47-5DDE-411F-9FC8-0B2161A1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8A5-7EFD-45EF-B05F-6D21FB3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724-499F-4F03-A4E1-C755F0C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AFB5-45C5-47ED-8FFC-63EE9ACE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sympathetic innervation of stom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0103"/>
          <p:cNvPicPr/>
          <p:nvPr/>
        </p:nvPicPr>
        <p:blipFill>
          <a:blip r:embed="rId1"/>
          <a:stretch/>
        </p:blipFill>
        <p:spPr>
          <a:xfrm>
            <a:off x="5105520" y="1752480"/>
            <a:ext cx="4038480" cy="438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0366"/>
          <p:cNvPicPr/>
          <p:nvPr/>
        </p:nvPicPr>
        <p:blipFill>
          <a:blip r:embed="rId2"/>
          <a:stretch/>
        </p:blipFill>
        <p:spPr>
          <a:xfrm>
            <a:off x="0" y="175248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755720" y="251460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03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 rot="16200000">
            <a:off x="1792800" y="2550240"/>
            <a:ext cx="216000" cy="144360"/>
          </a:xfrm>
          <a:prstGeom prst="flowChartMerg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7"/>
          <p:cNvSpPr/>
          <p:nvPr/>
        </p:nvSpPr>
        <p:spPr>
          <a:xfrm>
            <a:off x="6443640" y="3645000"/>
            <a:ext cx="289080" cy="28728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3564000" y="314172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361620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1"/>
          <p:cNvSpPr/>
          <p:nvPr/>
        </p:nvSpPr>
        <p:spPr>
          <a:xfrm rot="8386800">
            <a:off x="6516720" y="3715920"/>
            <a:ext cx="218880" cy="2016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"/>
          <p:cNvSpPr/>
          <p:nvPr/>
        </p:nvSpPr>
        <p:spPr>
          <a:xfrm>
            <a:off x="6732720" y="3789360"/>
            <a:ext cx="64764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4"/>
          <p:cNvSpPr/>
          <p:nvPr/>
        </p:nvSpPr>
        <p:spPr>
          <a:xfrm>
            <a:off x="7740720" y="3789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6400800" y="4724280"/>
            <a:ext cx="2700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increase of stomach peristal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0520" y="1905120"/>
            <a:ext cx="15951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puls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gus nerve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09680" y="3429000"/>
            <a:ext cx="4032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stomach via sensory vagus nerve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486400" y="4038480"/>
            <a:ext cx="1994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asympathetic ganglion of 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781680" y="2971800"/>
            <a:ext cx="22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4495680" y="2209680"/>
            <a:ext cx="22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a vagus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0" y="3200400"/>
            <a:ext cx="23050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f vagus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905120" y="1905120"/>
            <a:ext cx="2305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orsal vag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3022560"/>
            <a:ext cx="5434200" cy="1381320"/>
          </a:xfrm>
          <a:custGeom>
            <a:avLst/>
            <a:gdLst/>
            <a:ahLst/>
            <a:rect l="l" t="t" r="r" b="b"/>
            <a:pathLst>
              <a:path w="3423" h="870">
                <a:moveTo>
                  <a:pt x="3423" y="870"/>
                </a:moveTo>
                <a:cubicBezTo>
                  <a:pt x="3374" y="832"/>
                  <a:pt x="3210" y="726"/>
                  <a:pt x="3120" y="640"/>
                </a:cubicBezTo>
                <a:cubicBezTo>
                  <a:pt x="3030" y="554"/>
                  <a:pt x="3000" y="440"/>
                  <a:pt x="2880" y="352"/>
                </a:cubicBezTo>
                <a:cubicBezTo>
                  <a:pt x="2760" y="264"/>
                  <a:pt x="2688" y="168"/>
                  <a:pt x="2400" y="112"/>
                </a:cubicBezTo>
                <a:cubicBezTo>
                  <a:pt x="2112" y="56"/>
                  <a:pt x="1552" y="32"/>
                  <a:pt x="1152" y="16"/>
                </a:cubicBezTo>
                <a:cubicBezTo>
                  <a:pt x="752" y="0"/>
                  <a:pt x="192" y="16"/>
                  <a:pt x="0" y="16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 rot="18184800">
            <a:off x="6850440" y="4350600"/>
            <a:ext cx="308160" cy="141120"/>
          </a:xfrm>
          <a:prstGeom prst="flowChartExtra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6400" y="2622600"/>
            <a:ext cx="4576680" cy="1035000"/>
          </a:xfrm>
          <a:custGeom>
            <a:avLst/>
            <a:gdLst/>
            <a:ahLst/>
            <a:rect l="l" t="t" r="r" b="b"/>
            <a:pathLst>
              <a:path w="2883" h="652">
                <a:moveTo>
                  <a:pt x="0" y="3"/>
                </a:moveTo>
                <a:cubicBezTo>
                  <a:pt x="146" y="7"/>
                  <a:pt x="563" y="0"/>
                  <a:pt x="867" y="28"/>
                </a:cubicBezTo>
                <a:cubicBezTo>
                  <a:pt x="1171" y="56"/>
                  <a:pt x="1526" y="98"/>
                  <a:pt x="1827" y="172"/>
                </a:cubicBezTo>
                <a:cubicBezTo>
                  <a:pt x="2128" y="246"/>
                  <a:pt x="2498" y="393"/>
                  <a:pt x="2674" y="473"/>
                </a:cubicBezTo>
                <a:cubicBezTo>
                  <a:pt x="2850" y="553"/>
                  <a:pt x="2839" y="615"/>
                  <a:pt x="2883" y="65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82680" y="2590920"/>
            <a:ext cx="469800" cy="380880"/>
          </a:xfrm>
          <a:custGeom>
            <a:avLst/>
            <a:gdLst/>
            <a:ahLst/>
            <a:rect l="l" t="t" r="r" b="b"/>
            <a:pathLst>
              <a:path w="296" h="240">
                <a:moveTo>
                  <a:pt x="296" y="0"/>
                </a:moveTo>
                <a:cubicBezTo>
                  <a:pt x="224" y="12"/>
                  <a:pt x="152" y="24"/>
                  <a:pt x="104" y="48"/>
                </a:cubicBezTo>
                <a:cubicBezTo>
                  <a:pt x="56" y="72"/>
                  <a:pt x="16" y="112"/>
                  <a:pt x="8" y="144"/>
                </a:cubicBezTo>
                <a:cubicBezTo>
                  <a:pt x="0" y="176"/>
                  <a:pt x="48" y="224"/>
                  <a:pt x="56" y="24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371600" y="2895480"/>
            <a:ext cx="216000" cy="216000"/>
          </a:xfrm>
          <a:prstGeom prst="flowChartConnector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8000"/>
                            </p:stCondLst>
                            <p:childTnLst>
                              <p:par>
                                <p:cTn id="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7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90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0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4T04:09:35Z</dcterms:created>
  <dc:creator>Анечка</dc:creator>
  <dc:description/>
  <dc:language>en-US</dc:language>
  <cp:lastModifiedBy>user-ilya</cp:lastModifiedBy>
  <dcterms:modified xsi:type="dcterms:W3CDTF">2016-11-04T04:28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