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71C-7333-4AE8-8D2E-1093A0A3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700E-4DAA-41BD-883E-434CC0BB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5A2-2AF6-45A1-96FA-32987D77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711-D5C5-433B-8858-5F5F5B13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38E1-5013-4A7E-9DB5-6D9D6F77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FB6-6E99-4FA5-AC83-049B7B97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949E-5F7D-431B-97F6-C1D81B2E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7DBB-CE0C-4A4E-A601-838114BC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0490-920A-409F-9B28-D29CAD3A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BBCE-1BFE-4046-AEB3-4F821D52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1D2-EEBA-4788-A573-1D921E6B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D3B-33CB-4018-9FB3-AB1899F1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DEF1-C6E4-4F2D-96BC-0A2424DC1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sympathetic innervation of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P0366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4313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P0084"/>
          <p:cNvPicPr/>
          <p:nvPr/>
        </p:nvPicPr>
        <p:blipFill>
          <a:blip r:embed="rId2"/>
          <a:stretch/>
        </p:blipFill>
        <p:spPr>
          <a:xfrm>
            <a:off x="914400" y="1600200"/>
            <a:ext cx="30700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Oval 5"/>
          <p:cNvSpPr/>
          <p:nvPr/>
        </p:nvSpPr>
        <p:spPr>
          <a:xfrm>
            <a:off x="6300720" y="2565360"/>
            <a:ext cx="216000" cy="193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509840" y="1324080"/>
            <a:ext cx="40320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impulse from heart via sensory vagus nerve fi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1"/>
          <p:cNvSpPr/>
          <p:nvPr/>
        </p:nvSpPr>
        <p:spPr>
          <a:xfrm rot="16200000">
            <a:off x="6264000" y="2601720"/>
            <a:ext cx="216000" cy="1429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2916360" y="4724280"/>
            <a:ext cx="38163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Inhibition of cardiac activity and constriction of coronary art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4"/>
          <p:cNvSpPr/>
          <p:nvPr/>
        </p:nvSpPr>
        <p:spPr>
          <a:xfrm>
            <a:off x="3203640" y="3645000"/>
            <a:ext cx="216000" cy="193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3478320" y="3533760"/>
            <a:ext cx="19936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arasympathetic ganglion of he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 rot="10092000">
            <a:off x="3203640" y="3715920"/>
            <a:ext cx="216000" cy="1476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 flipH="1">
            <a:off x="2484360" y="3789360"/>
            <a:ext cx="7192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914400" y="3962520"/>
            <a:ext cx="22320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glionic fibres to he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9"/>
          <p:cNvSpPr/>
          <p:nvPr/>
        </p:nvSpPr>
        <p:spPr>
          <a:xfrm>
            <a:off x="3203640" y="4365720"/>
            <a:ext cx="72072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3186000" y="2543040"/>
            <a:ext cx="22320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anglionic fi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ia vagus ne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2"/>
          <p:cNvSpPr/>
          <p:nvPr/>
        </p:nvSpPr>
        <p:spPr>
          <a:xfrm>
            <a:off x="2590920" y="2057400"/>
            <a:ext cx="3671640" cy="160812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1905120"/>
            <a:ext cx="3365640" cy="1620720"/>
          </a:xfrm>
          <a:custGeom>
            <a:avLst/>
            <a:gdLst/>
            <a:ahLst/>
            <a:rect l="l" t="t" r="r" b="b"/>
            <a:pathLst>
              <a:path w="2120" h="1021">
                <a:moveTo>
                  <a:pt x="226" y="1021"/>
                </a:moveTo>
                <a:cubicBezTo>
                  <a:pt x="207" y="977"/>
                  <a:pt x="140" y="849"/>
                  <a:pt x="104" y="758"/>
                </a:cubicBezTo>
                <a:cubicBezTo>
                  <a:pt x="68" y="667"/>
                  <a:pt x="16" y="560"/>
                  <a:pt x="8" y="472"/>
                </a:cubicBezTo>
                <a:cubicBezTo>
                  <a:pt x="0" y="384"/>
                  <a:pt x="8" y="301"/>
                  <a:pt x="56" y="230"/>
                </a:cubicBezTo>
                <a:cubicBezTo>
                  <a:pt x="104" y="159"/>
                  <a:pt x="157" y="72"/>
                  <a:pt x="293" y="48"/>
                </a:cubicBezTo>
                <a:cubicBezTo>
                  <a:pt x="429" y="24"/>
                  <a:pt x="568" y="0"/>
                  <a:pt x="872" y="86"/>
                </a:cubicBezTo>
                <a:cubicBezTo>
                  <a:pt x="1176" y="172"/>
                  <a:pt x="1912" y="486"/>
                  <a:pt x="2120" y="566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45929" dir="337112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5"/>
          <p:cNvSpPr/>
          <p:nvPr/>
        </p:nvSpPr>
        <p:spPr>
          <a:xfrm rot="20320200">
            <a:off x="3048120" y="3505320"/>
            <a:ext cx="125280" cy="11880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6095880" y="2743200"/>
            <a:ext cx="216000" cy="1936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105520" y="3124080"/>
            <a:ext cx="23050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nsory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of vagus ne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2679840"/>
            <a:ext cx="282600" cy="298440"/>
          </a:xfrm>
          <a:custGeom>
            <a:avLst/>
            <a:gdLst/>
            <a:ahLst/>
            <a:rect l="l" t="t" r="r" b="b"/>
            <a:pathLst>
              <a:path w="178" h="188">
                <a:moveTo>
                  <a:pt x="0" y="119"/>
                </a:moveTo>
                <a:cubicBezTo>
                  <a:pt x="19" y="130"/>
                  <a:pt x="87" y="188"/>
                  <a:pt x="116" y="186"/>
                </a:cubicBezTo>
                <a:cubicBezTo>
                  <a:pt x="145" y="184"/>
                  <a:pt x="172" y="137"/>
                  <a:pt x="175" y="106"/>
                </a:cubicBezTo>
                <a:cubicBezTo>
                  <a:pt x="178" y="75"/>
                  <a:pt x="144" y="22"/>
                  <a:pt x="136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28496" dir="15744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15880" y="2438280"/>
            <a:ext cx="15951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pulse 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agus nerve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5334120" y="1828800"/>
            <a:ext cx="23050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orsal vagal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2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7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9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1000"/>
                            </p:stCondLst>
                            <p:childTnLst>
                              <p:par>
                                <p:cTn id="7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30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8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8" nodeType="afterEffect" fill="hold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5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0" dur="25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1" dur="25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2T03:42:20Z</dcterms:created>
  <dc:creator>Анечка</dc:creator>
  <dc:description/>
  <dc:language>en-US</dc:language>
  <cp:lastModifiedBy>user-ilya</cp:lastModifiedBy>
  <dcterms:modified xsi:type="dcterms:W3CDTF">2016-11-03T15:05:0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