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167E-44DD-49EF-A262-4C2B8CF8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23FF-9556-489E-B783-7435AE09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1F6-3F95-4C8B-8B8A-3D7C4A7A2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283A-F28B-4515-AFD4-0270ED9A6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EA0-C466-4A7D-B718-9108113F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89F7-72BD-436C-9046-94E303AD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FD36-5EF8-46CB-81C7-DEBA0869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FB18-10BA-44EC-8645-2EE27AF8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EF99-F968-41F1-9259-A7F6BF2DA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F05E-0FE5-4220-BD6A-5975B13E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49C5-77A4-46F3-A81D-2888490B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A86B-FEB7-44D8-A38A-376D39CD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25AF-0759-45CB-8365-00BEDF42F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sympathetic innervation of he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P0366"/>
          <p:cNvPicPr/>
          <p:nvPr/>
        </p:nvPicPr>
        <p:blipFill>
          <a:blip r:embed="rId1"/>
          <a:stretch/>
        </p:blipFill>
        <p:spPr>
          <a:xfrm>
            <a:off x="4648320" y="1752480"/>
            <a:ext cx="4038480" cy="4313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P0084"/>
          <p:cNvPicPr/>
          <p:nvPr/>
        </p:nvPicPr>
        <p:blipFill>
          <a:blip r:embed="rId2"/>
          <a:stretch/>
        </p:blipFill>
        <p:spPr>
          <a:xfrm>
            <a:off x="914400" y="1600200"/>
            <a:ext cx="307008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Oval 5"/>
          <p:cNvSpPr/>
          <p:nvPr/>
        </p:nvSpPr>
        <p:spPr>
          <a:xfrm>
            <a:off x="6300720" y="2565360"/>
            <a:ext cx="216000" cy="193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1509840" y="1324080"/>
            <a:ext cx="40320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impulse from heart via sensory vagus nerve fi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1"/>
          <p:cNvSpPr/>
          <p:nvPr/>
        </p:nvSpPr>
        <p:spPr>
          <a:xfrm rot="16200000">
            <a:off x="6264000" y="2601720"/>
            <a:ext cx="216000" cy="1429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2916360" y="4724280"/>
            <a:ext cx="3816360" cy="100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Inhibition of cardiac activity and constriction of coronary art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4"/>
          <p:cNvSpPr/>
          <p:nvPr/>
        </p:nvSpPr>
        <p:spPr>
          <a:xfrm>
            <a:off x="3203640" y="3645000"/>
            <a:ext cx="216000" cy="1936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5"/>
          <p:cNvSpPr/>
          <p:nvPr/>
        </p:nvSpPr>
        <p:spPr>
          <a:xfrm>
            <a:off x="3478320" y="3533760"/>
            <a:ext cx="19936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arasympathetic ganglion of he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/>
          <p:cNvSpPr/>
          <p:nvPr/>
        </p:nvSpPr>
        <p:spPr>
          <a:xfrm rot="10092000">
            <a:off x="3203640" y="3715920"/>
            <a:ext cx="216000" cy="14760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7"/>
          <p:cNvSpPr/>
          <p:nvPr/>
        </p:nvSpPr>
        <p:spPr>
          <a:xfrm flipH="1">
            <a:off x="2484360" y="3789360"/>
            <a:ext cx="71928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914400" y="3962520"/>
            <a:ext cx="22320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ganglionic fibres to he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9"/>
          <p:cNvSpPr/>
          <p:nvPr/>
        </p:nvSpPr>
        <p:spPr>
          <a:xfrm>
            <a:off x="3203640" y="4365720"/>
            <a:ext cx="72072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1"/>
          <p:cNvSpPr/>
          <p:nvPr/>
        </p:nvSpPr>
        <p:spPr>
          <a:xfrm>
            <a:off x="3186000" y="2543040"/>
            <a:ext cx="22320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ganglionic fi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ia vagus ne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22"/>
          <p:cNvSpPr/>
          <p:nvPr/>
        </p:nvSpPr>
        <p:spPr>
          <a:xfrm>
            <a:off x="2590920" y="2057400"/>
            <a:ext cx="3671640" cy="160812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1905120"/>
            <a:ext cx="3365640" cy="1620720"/>
          </a:xfrm>
          <a:custGeom>
            <a:avLst/>
            <a:gdLst/>
            <a:ahLst/>
            <a:rect l="l" t="t" r="r" b="b"/>
            <a:pathLst>
              <a:path w="2120" h="1021">
                <a:moveTo>
                  <a:pt x="226" y="1021"/>
                </a:moveTo>
                <a:cubicBezTo>
                  <a:pt x="207" y="977"/>
                  <a:pt x="140" y="849"/>
                  <a:pt x="104" y="758"/>
                </a:cubicBezTo>
                <a:cubicBezTo>
                  <a:pt x="68" y="667"/>
                  <a:pt x="16" y="560"/>
                  <a:pt x="8" y="472"/>
                </a:cubicBezTo>
                <a:cubicBezTo>
                  <a:pt x="0" y="384"/>
                  <a:pt x="8" y="301"/>
                  <a:pt x="56" y="230"/>
                </a:cubicBezTo>
                <a:cubicBezTo>
                  <a:pt x="104" y="159"/>
                  <a:pt x="157" y="72"/>
                  <a:pt x="293" y="48"/>
                </a:cubicBezTo>
                <a:cubicBezTo>
                  <a:pt x="429" y="24"/>
                  <a:pt x="568" y="0"/>
                  <a:pt x="872" y="86"/>
                </a:cubicBezTo>
                <a:cubicBezTo>
                  <a:pt x="1176" y="172"/>
                  <a:pt x="1912" y="486"/>
                  <a:pt x="2120" y="566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45929" dir="3371122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5"/>
          <p:cNvSpPr/>
          <p:nvPr/>
        </p:nvSpPr>
        <p:spPr>
          <a:xfrm rot="20320200">
            <a:off x="3048120" y="3505320"/>
            <a:ext cx="125280" cy="11880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6095880" y="2743200"/>
            <a:ext cx="216000" cy="1936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105520" y="3124080"/>
            <a:ext cx="230508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nsory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of vagus ne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48520" y="2679840"/>
            <a:ext cx="282600" cy="298440"/>
          </a:xfrm>
          <a:custGeom>
            <a:avLst/>
            <a:gdLst/>
            <a:ahLst/>
            <a:rect l="l" t="t" r="r" b="b"/>
            <a:pathLst>
              <a:path w="178" h="188">
                <a:moveTo>
                  <a:pt x="0" y="119"/>
                </a:moveTo>
                <a:cubicBezTo>
                  <a:pt x="19" y="130"/>
                  <a:pt x="87" y="188"/>
                  <a:pt x="116" y="186"/>
                </a:cubicBezTo>
                <a:cubicBezTo>
                  <a:pt x="145" y="184"/>
                  <a:pt x="172" y="137"/>
                  <a:pt x="175" y="106"/>
                </a:cubicBezTo>
                <a:cubicBezTo>
                  <a:pt x="178" y="75"/>
                  <a:pt x="144" y="22"/>
                  <a:pt x="136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28496" dir="157448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15880" y="2438280"/>
            <a:ext cx="15951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Impulse 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vagus nerve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5334120" y="1828800"/>
            <a:ext cx="230508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Dorsal vagal nucl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" dur="10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6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7" dur="10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2000"/>
                            </p:stCondLst>
                            <p:childTnLst>
                              <p:par>
                                <p:cTn id="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7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9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1000"/>
                            </p:stCondLst>
                            <p:childTnLst>
                              <p:par>
                                <p:cTn id="79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1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2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3000"/>
                            </p:stCondLst>
                            <p:childTnLst>
                              <p:par>
                                <p:cTn id="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8000"/>
                            </p:stCondLst>
                            <p:childTnLst>
                              <p:par>
                                <p:cTn id="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20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4000"/>
                            </p:stCondLst>
                            <p:childTnLst>
                              <p:par>
                                <p:cTn id="108" nodeType="afterEffect" fill="hold" presetClass="emph" presetID="27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5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0" dur="25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1" dur="250" autoRev="1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2T03:42:20Z</dcterms:created>
  <dc:creator>Анечка</dc:creator>
  <dc:description/>
  <dc:language>en-US</dc:language>
  <cp:lastModifiedBy>user-ilya</cp:lastModifiedBy>
  <dcterms:modified xsi:type="dcterms:W3CDTF">2016-11-03T15:05:0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