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4AF8-DED8-40FA-90CB-3046B24C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45D-4AA7-4F81-AFAF-01ACD751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6BAF-7DBC-48FE-94B3-06E70A83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C273-37BE-4FCE-94F8-62363EDF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9FE-C771-4FE6-958C-9D2609C4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87C3-2EDE-43F4-8172-BCE7AC09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F58-C5A6-41FC-B8B8-8B69FB04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41B0-83E1-4F93-A086-2E1EC92C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0B54-E0C0-404A-894A-B845BAFA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D1A1-1A6C-433B-A925-D394DBDD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9350-12C4-44B1-9167-D005A582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56BB-2E7B-4B38-B124-EF7E2591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1943-C02D-4B07-983A-B70864F39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asympathetic innerv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parotid gla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P0563"/>
          <p:cNvPicPr/>
          <p:nvPr/>
        </p:nvPicPr>
        <p:blipFill>
          <a:blip r:embed="rId1"/>
          <a:stretch/>
        </p:blipFill>
        <p:spPr>
          <a:xfrm>
            <a:off x="4648320" y="1600200"/>
            <a:ext cx="4002120" cy="45259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43" name="Picture 4" descr="011"/>
          <p:cNvPicPr/>
          <p:nvPr/>
        </p:nvPicPr>
        <p:blipFill>
          <a:blip r:embed="rId2"/>
          <a:stretch/>
        </p:blipFill>
        <p:spPr>
          <a:xfrm>
            <a:off x="609480" y="1600200"/>
            <a:ext cx="3691080" cy="45259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sp>
        <p:nvSpPr>
          <p:cNvPr id="44" name="Text Box 5"/>
          <p:cNvSpPr/>
          <p:nvPr/>
        </p:nvSpPr>
        <p:spPr>
          <a:xfrm>
            <a:off x="838080" y="2765520"/>
            <a:ext cx="24512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nsory nuclei of trigeminal ner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705720" y="1930320"/>
            <a:ext cx="24843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nsory rami of trigeminal nerve from oral muc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1908000" y="4437000"/>
            <a:ext cx="216000" cy="21600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 rot="1118400">
            <a:off x="1231560" y="3234960"/>
            <a:ext cx="750960" cy="1487520"/>
          </a:xfrm>
          <a:custGeom>
            <a:avLst/>
            <a:gdLst>
              <a:gd name="textAreaLeft" fmla="*/ 100440 w 750960"/>
              <a:gd name="textAreaRight" fmla="*/ 650520 w 750960"/>
              <a:gd name="textAreaTop" fmla="*/ 260280 h 1487520"/>
              <a:gd name="textAreaBottom" fmla="*/ 1078560 h 148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0" y="4724280"/>
            <a:ext cx="352260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ucleus salivatorius inf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of glossopharyngeal nerve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3564000" y="4102200"/>
            <a:ext cx="244800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ganglionic fibres via the lesser petrosal nerve (from glossopharyngeal ner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6084720" y="3500280"/>
            <a:ext cx="216000" cy="21600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6711840" y="3448080"/>
            <a:ext cx="23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6477120" y="4876920"/>
            <a:ext cx="25905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The increase of secr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9"/>
          <p:cNvSpPr/>
          <p:nvPr/>
        </p:nvSpPr>
        <p:spPr>
          <a:xfrm>
            <a:off x="7308720" y="43657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20"/>
          <p:cNvSpPr/>
          <p:nvPr/>
        </p:nvSpPr>
        <p:spPr>
          <a:xfrm>
            <a:off x="6197760" y="3070080"/>
            <a:ext cx="245880" cy="50328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1"/>
          <p:cNvSpPr/>
          <p:nvPr/>
        </p:nvSpPr>
        <p:spPr>
          <a:xfrm rot="10413600">
            <a:off x="6372000" y="3573000"/>
            <a:ext cx="142920" cy="212760"/>
          </a:xfrm>
          <a:prstGeom prst="triangle">
            <a:avLst>
              <a:gd name="adj" fmla="val 61676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2"/>
          <p:cNvSpPr/>
          <p:nvPr/>
        </p:nvSpPr>
        <p:spPr>
          <a:xfrm rot="8355000">
            <a:off x="1907640" y="4508640"/>
            <a:ext cx="216000" cy="101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3"/>
          <p:cNvSpPr/>
          <p:nvPr/>
        </p:nvSpPr>
        <p:spPr>
          <a:xfrm rot="8355000">
            <a:off x="6084360" y="3573000"/>
            <a:ext cx="216000" cy="1018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4"/>
          <p:cNvSpPr/>
          <p:nvPr/>
        </p:nvSpPr>
        <p:spPr>
          <a:xfrm>
            <a:off x="2525760" y="1812960"/>
            <a:ext cx="29527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fferent impulse through trigeminal 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5"/>
          <p:cNvSpPr/>
          <p:nvPr/>
        </p:nvSpPr>
        <p:spPr>
          <a:xfrm>
            <a:off x="2336760" y="2684520"/>
            <a:ext cx="3832200" cy="844560"/>
          </a:xfrm>
          <a:prstGeom prst="pie">
            <a:avLst/>
          </a:prstGeom>
          <a:noFill/>
          <a:ln w="38160">
            <a:solidFill>
              <a:srgbClr val="3366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8"/>
          <p:cNvSpPr/>
          <p:nvPr/>
        </p:nvSpPr>
        <p:spPr>
          <a:xfrm>
            <a:off x="6084720" y="2852640"/>
            <a:ext cx="216000" cy="21744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9"/>
          <p:cNvSpPr/>
          <p:nvPr/>
        </p:nvSpPr>
        <p:spPr>
          <a:xfrm>
            <a:off x="2195640" y="3429000"/>
            <a:ext cx="215640" cy="21600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0"/>
          <p:cNvSpPr/>
          <p:nvPr/>
        </p:nvSpPr>
        <p:spPr>
          <a:xfrm rot="20342400">
            <a:off x="7391520" y="3504960"/>
            <a:ext cx="141120" cy="20628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5410080" y="2235240"/>
            <a:ext cx="12956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rigeminal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2"/>
          <p:cNvSpPr/>
          <p:nvPr/>
        </p:nvSpPr>
        <p:spPr>
          <a:xfrm>
            <a:off x="5848200" y="3886200"/>
            <a:ext cx="17766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Otic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82960" y="3124080"/>
            <a:ext cx="4114800" cy="1387440"/>
          </a:xfrm>
          <a:custGeom>
            <a:avLst/>
            <a:gdLst/>
            <a:ahLst/>
            <a:rect l="l" t="t" r="r" b="b"/>
            <a:pathLst>
              <a:path w="2592" h="874">
                <a:moveTo>
                  <a:pt x="0" y="874"/>
                </a:moveTo>
                <a:cubicBezTo>
                  <a:pt x="75" y="856"/>
                  <a:pt x="283" y="826"/>
                  <a:pt x="464" y="768"/>
                </a:cubicBezTo>
                <a:cubicBezTo>
                  <a:pt x="645" y="710"/>
                  <a:pt x="816" y="648"/>
                  <a:pt x="1088" y="528"/>
                </a:cubicBezTo>
                <a:cubicBezTo>
                  <a:pt x="1360" y="408"/>
                  <a:pt x="1856" y="96"/>
                  <a:pt x="2096" y="48"/>
                </a:cubicBezTo>
                <a:cubicBezTo>
                  <a:pt x="2336" y="0"/>
                  <a:pt x="2464" y="208"/>
                  <a:pt x="2528" y="240"/>
                </a:cubicBezTo>
                <a:cubicBezTo>
                  <a:pt x="2592" y="272"/>
                  <a:pt x="2488" y="240"/>
                  <a:pt x="2480" y="24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2971800"/>
            <a:ext cx="1218960" cy="60948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0" y="0"/>
                </a:moveTo>
                <a:cubicBezTo>
                  <a:pt x="140" y="8"/>
                  <a:pt x="280" y="16"/>
                  <a:pt x="384" y="48"/>
                </a:cubicBezTo>
                <a:cubicBezTo>
                  <a:pt x="488" y="80"/>
                  <a:pt x="560" y="136"/>
                  <a:pt x="624" y="192"/>
                </a:cubicBezTo>
                <a:cubicBezTo>
                  <a:pt x="688" y="248"/>
                  <a:pt x="744" y="352"/>
                  <a:pt x="768" y="384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6553080" y="3124080"/>
            <a:ext cx="24847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stganglionic fibres to parotid g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0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" dur="10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" dur="10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1000"/>
                            </p:stCondLst>
                            <p:childTnLst>
                              <p:par>
                                <p:cTn id="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6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8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0"/>
                            </p:stCondLst>
                            <p:childTnLst>
                              <p:par>
                                <p:cTn id="6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10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4" dur="10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" dur="10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7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9000"/>
                            </p:stCondLst>
                            <p:childTnLst>
                              <p:par>
                                <p:cTn id="7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7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10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4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6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8000"/>
                            </p:stCondLst>
                            <p:childTnLst>
                              <p:par>
                                <p:cTn id="9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10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9" dur="10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" dur="10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5000"/>
                            </p:stCondLst>
                            <p:childTnLst>
                              <p:par>
                                <p:cTn id="1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2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4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6000"/>
                            </p:stCondLst>
                            <p:childTnLst>
                              <p:par>
                                <p:cTn id="13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2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3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0T11:29:57Z</dcterms:created>
  <dc:creator>Анечка</dc:creator>
  <dc:description/>
  <dc:language>en-US</dc:language>
  <cp:lastModifiedBy>user-ilya</cp:lastModifiedBy>
  <dcterms:modified xsi:type="dcterms:W3CDTF">2016-10-30T18:12:4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