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C51-4D4F-41D5-A511-FB0829089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20DE-3E41-46A1-AB36-0161176CA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8A45-A301-4F47-BA40-12AA03340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E58-1821-4071-9623-09F107F7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A4-8C25-47E9-AE96-E053FEFB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A51-3EB9-4BF8-96A1-6620C22C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D80-5A3C-4393-BD45-295A3DBA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CEF8-0B35-42CD-A998-DB34DD42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1DC0-BACF-4880-942B-9860A063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D867-4464-45C9-A9B7-AFF858E5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17C-86CE-49EB-989B-71DD47D2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0D5-7C75-4664-B022-B6E92DA5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2FA9-E94A-4086-BD64-E832FC213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rasympathetic innerv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f parotid g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0563"/>
          <p:cNvPicPr/>
          <p:nvPr/>
        </p:nvPicPr>
        <p:blipFill>
          <a:blip r:embed="rId1"/>
          <a:stretch/>
        </p:blipFill>
        <p:spPr>
          <a:xfrm>
            <a:off x="4648320" y="1600200"/>
            <a:ext cx="400212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pic>
        <p:nvPicPr>
          <p:cNvPr id="43" name="Picture 4" descr="011"/>
          <p:cNvPicPr/>
          <p:nvPr/>
        </p:nvPicPr>
        <p:blipFill>
          <a:blip r:embed="rId2"/>
          <a:stretch/>
        </p:blipFill>
        <p:spPr>
          <a:xfrm>
            <a:off x="609480" y="1600200"/>
            <a:ext cx="3691080" cy="45259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44" name="Text Box 5"/>
          <p:cNvSpPr/>
          <p:nvPr/>
        </p:nvSpPr>
        <p:spPr>
          <a:xfrm>
            <a:off x="838080" y="2765520"/>
            <a:ext cx="24512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nuclei of trigeminal ner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705720" y="1930320"/>
            <a:ext cx="248436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nsory rami of trigeminal nerve from oral muc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8"/>
          <p:cNvSpPr/>
          <p:nvPr/>
        </p:nvSpPr>
        <p:spPr>
          <a:xfrm>
            <a:off x="1908000" y="443700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9"/>
          <p:cNvSpPr/>
          <p:nvPr/>
        </p:nvSpPr>
        <p:spPr>
          <a:xfrm rot="1118400">
            <a:off x="1231560" y="3234960"/>
            <a:ext cx="750960" cy="1487520"/>
          </a:xfrm>
          <a:custGeom>
            <a:avLst/>
            <a:gdLst>
              <a:gd name="textAreaLeft" fmla="*/ 100440 w 750960"/>
              <a:gd name="textAreaRight" fmla="*/ 650520 w 750960"/>
              <a:gd name="textAreaTop" fmla="*/ 260280 h 1487520"/>
              <a:gd name="textAreaBottom" fmla="*/ 1078560 h 1487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4724280"/>
            <a:ext cx="35226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Nucleus salivatorius inf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f glossopharyngeal nerve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564000" y="4102200"/>
            <a:ext cx="2448000" cy="946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reganglionic fibres via the lesser petrosal nerve (from glossopharyngeal ner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2"/>
          <p:cNvSpPr/>
          <p:nvPr/>
        </p:nvSpPr>
        <p:spPr>
          <a:xfrm>
            <a:off x="6084720" y="3500280"/>
            <a:ext cx="216000" cy="216000"/>
          </a:xfrm>
          <a:prstGeom prst="flowChartConnector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11840" y="3448080"/>
            <a:ext cx="2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6477120" y="4876920"/>
            <a:ext cx="25905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 Black"/>
              </a:rPr>
              <a:t>The increase of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9"/>
          <p:cNvSpPr/>
          <p:nvPr/>
        </p:nvSpPr>
        <p:spPr>
          <a:xfrm>
            <a:off x="7308720" y="43657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20"/>
          <p:cNvSpPr/>
          <p:nvPr/>
        </p:nvSpPr>
        <p:spPr>
          <a:xfrm>
            <a:off x="6197760" y="3070080"/>
            <a:ext cx="245880" cy="503280"/>
          </a:xfrm>
          <a:prstGeom prst="pie">
            <a:avLst/>
          </a:pr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1"/>
          <p:cNvSpPr/>
          <p:nvPr/>
        </p:nvSpPr>
        <p:spPr>
          <a:xfrm rot="10413600">
            <a:off x="6372000" y="3573000"/>
            <a:ext cx="142920" cy="212760"/>
          </a:xfrm>
          <a:prstGeom prst="triangle">
            <a:avLst>
              <a:gd name="adj" fmla="val 61676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 rot="8355000">
            <a:off x="1907640" y="4508640"/>
            <a:ext cx="216000" cy="101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 rot="8355000">
            <a:off x="6084360" y="3573000"/>
            <a:ext cx="216000" cy="1018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4"/>
          <p:cNvSpPr/>
          <p:nvPr/>
        </p:nvSpPr>
        <p:spPr>
          <a:xfrm>
            <a:off x="2525760" y="1812960"/>
            <a:ext cx="2952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fferent impulse through trigeminal ro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25"/>
          <p:cNvSpPr/>
          <p:nvPr/>
        </p:nvSpPr>
        <p:spPr>
          <a:xfrm>
            <a:off x="2336760" y="2684520"/>
            <a:ext cx="3832200" cy="844560"/>
          </a:xfrm>
          <a:prstGeom prst="pie">
            <a:avLst/>
          </a:prstGeom>
          <a:noFill/>
          <a:ln w="38160">
            <a:solidFill>
              <a:srgbClr val="3366ff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8"/>
          <p:cNvSpPr/>
          <p:nvPr/>
        </p:nvSpPr>
        <p:spPr>
          <a:xfrm>
            <a:off x="6084720" y="2852640"/>
            <a:ext cx="216000" cy="21744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29"/>
          <p:cNvSpPr/>
          <p:nvPr/>
        </p:nvSpPr>
        <p:spPr>
          <a:xfrm>
            <a:off x="2195640" y="3429000"/>
            <a:ext cx="215640" cy="216000"/>
          </a:xfrm>
          <a:prstGeom prst="flowChartConnector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0"/>
          <p:cNvSpPr/>
          <p:nvPr/>
        </p:nvSpPr>
        <p:spPr>
          <a:xfrm rot="20342400">
            <a:off x="7391520" y="3504960"/>
            <a:ext cx="141120" cy="20628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5410080" y="2235240"/>
            <a:ext cx="129564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rigeminal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2"/>
          <p:cNvSpPr/>
          <p:nvPr/>
        </p:nvSpPr>
        <p:spPr>
          <a:xfrm>
            <a:off x="5848200" y="3886200"/>
            <a:ext cx="17766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Otic gang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82960" y="3124080"/>
            <a:ext cx="4114800" cy="1387440"/>
          </a:xfrm>
          <a:custGeom>
            <a:avLst/>
            <a:gdLst/>
            <a:ahLst/>
            <a:rect l="l" t="t" r="r" b="b"/>
            <a:pathLst>
              <a:path w="2592" h="874">
                <a:moveTo>
                  <a:pt x="0" y="874"/>
                </a:moveTo>
                <a:cubicBezTo>
                  <a:pt x="75" y="856"/>
                  <a:pt x="283" y="826"/>
                  <a:pt x="464" y="768"/>
                </a:cubicBezTo>
                <a:cubicBezTo>
                  <a:pt x="645" y="710"/>
                  <a:pt x="816" y="648"/>
                  <a:pt x="1088" y="528"/>
                </a:cubicBezTo>
                <a:cubicBezTo>
                  <a:pt x="1360" y="408"/>
                  <a:pt x="1856" y="96"/>
                  <a:pt x="2096" y="48"/>
                </a:cubicBezTo>
                <a:cubicBezTo>
                  <a:pt x="2336" y="0"/>
                  <a:pt x="2464" y="208"/>
                  <a:pt x="2528" y="240"/>
                </a:cubicBezTo>
                <a:cubicBezTo>
                  <a:pt x="2592" y="272"/>
                  <a:pt x="2488" y="240"/>
                  <a:pt x="2480" y="240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48520" y="2971800"/>
            <a:ext cx="1218960" cy="60948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0" y="0"/>
                </a:moveTo>
                <a:cubicBezTo>
                  <a:pt x="140" y="8"/>
                  <a:pt x="280" y="16"/>
                  <a:pt x="384" y="48"/>
                </a:cubicBezTo>
                <a:cubicBezTo>
                  <a:pt x="488" y="80"/>
                  <a:pt x="560" y="136"/>
                  <a:pt x="624" y="192"/>
                </a:cubicBezTo>
                <a:cubicBezTo>
                  <a:pt x="688" y="248"/>
                  <a:pt x="744" y="352"/>
                  <a:pt x="768" y="38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6553080" y="3124080"/>
            <a:ext cx="248472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Postganglionic fibres to parotid g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7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9000"/>
                            </p:stCondLst>
                            <p:childTnLst>
                              <p:par>
                                <p:cTn id="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8" dur="1000" autoRev="1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1000"/>
                            </p:stCondLst>
                            <p:childTnLst>
                              <p:par>
                                <p:cTn id="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6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64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65" dur="1000" autoRev="1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2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7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9000"/>
                            </p:stCondLst>
                            <p:childTnLst>
                              <p:par>
                                <p:cTn id="7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77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78" dur="10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100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4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6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8000"/>
                            </p:stCondLst>
                            <p:childTnLst>
                              <p:par>
                                <p:cTn id="9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8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1000" autoRev="1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5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620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4000"/>
                            </p:stCondLst>
                            <p:childTnLst>
                              <p:par>
                                <p:cTn id="1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6000"/>
                            </p:stCondLst>
                            <p:childTnLst>
                              <p:par>
                                <p:cTn id="1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1000" autoRev="1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30T11:29:57Z</dcterms:created>
  <dc:creator>Анечка</dc:creator>
  <dc:description/>
  <dc:language>en-US</dc:language>
  <cp:lastModifiedBy>user-ilya</cp:lastModifiedBy>
  <dcterms:modified xsi:type="dcterms:W3CDTF">2016-10-30T18:12:4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